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36520" y="763560"/>
            <a:ext cx="54943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57900"/>
                </a:solidFill>
                <a:latin typeface="Bitstream Vera Sans"/>
              </a:rPr>
              <a:t>Click to move the slide</a:t>
            </a: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D3C2672-1B13-49F3-992B-843EBF281D3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136520" y="763560"/>
            <a:ext cx="54975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body"/>
          </p:nvPr>
        </p:nvSpPr>
        <p:spPr>
          <a:xfrm>
            <a:off x="775800" y="4776840"/>
            <a:ext cx="6216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136520" y="763560"/>
            <a:ext cx="54975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body"/>
          </p:nvPr>
        </p:nvSpPr>
        <p:spPr>
          <a:xfrm>
            <a:off x="775800" y="4776840"/>
            <a:ext cx="6216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136520" y="763560"/>
            <a:ext cx="54975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body"/>
          </p:nvPr>
        </p:nvSpPr>
        <p:spPr>
          <a:xfrm>
            <a:off x="775800" y="4776840"/>
            <a:ext cx="6216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136520" y="763560"/>
            <a:ext cx="54975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body"/>
          </p:nvPr>
        </p:nvSpPr>
        <p:spPr>
          <a:xfrm>
            <a:off x="775800" y="4776840"/>
            <a:ext cx="6216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136520" y="763560"/>
            <a:ext cx="54975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body"/>
          </p:nvPr>
        </p:nvSpPr>
        <p:spPr>
          <a:xfrm>
            <a:off x="775800" y="4776840"/>
            <a:ext cx="6216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4742-5B93-46AE-AB44-4235FD553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-73440"/>
            <a:ext cx="9067680" cy="20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9E26-DE75-4E25-BE84-F35C988A8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-73440"/>
            <a:ext cx="9067680" cy="20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3A11-DF65-4739-891F-121DC47C1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-73440"/>
            <a:ext cx="9067680" cy="20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9137-823F-4C99-98CB-B6F833669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3280" y="-73440"/>
            <a:ext cx="9067680" cy="20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87D0-AAD6-499C-A7AB-A0113960C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3280" y="-73440"/>
            <a:ext cx="9067680" cy="20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CA21-F78B-4062-BA65-8E26DB11F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3280" y="-73440"/>
            <a:ext cx="9067680" cy="20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C926-EAC6-4DCA-B892-9E2A54C3F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-73440"/>
            <a:ext cx="9067680" cy="20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5BC7-E5B8-4038-BA0B-6EBE4EA91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3280" y="-73440"/>
            <a:ext cx="9067680" cy="93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D1B2-ECF6-4349-9626-1F4D2E965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3280" y="-73440"/>
            <a:ext cx="9067680" cy="20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CC5C-F222-4DAC-B399-5C837FE1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3280" y="-73440"/>
            <a:ext cx="9067680" cy="20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A2BA-E4F6-4474-837D-B735A3F3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-73440"/>
            <a:ext cx="9067680" cy="20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D1CF-1D44-4341-ACE3-5748BE2B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0080720" cy="3780000"/>
          </a:xfrm>
          <a:prstGeom prst="roundRect">
            <a:avLst>
              <a:gd name="adj" fmla="val 42"/>
            </a:avLst>
          </a:prstGeom>
          <a:gradFill rotWithShape="0">
            <a:gsLst>
              <a:gs pos="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3280" y="-73440"/>
            <a:ext cx="9067680" cy="20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57900"/>
                </a:solidFill>
                <a:latin typeface="Bitstream Vera Sans"/>
              </a:rPr>
              <a:t>Click to edit the title text format</a:t>
            </a: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spcAft>
                <a:spcPts val="1426"/>
              </a:spcAft>
              <a:buClr>
                <a:srgbClr val="f579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spcAft>
                <a:spcPts val="1426"/>
              </a:spcAft>
              <a:buClr>
                <a:srgbClr val="f579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3840" indent="-216000">
              <a:spcAft>
                <a:spcPts val="1426"/>
              </a:spcAft>
              <a:buClr>
                <a:srgbClr val="f579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5480" indent="-214200">
              <a:spcAft>
                <a:spcPts val="1426"/>
              </a:spcAft>
              <a:buClr>
                <a:srgbClr val="f579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7480" indent="-216000">
              <a:spcAft>
                <a:spcPts val="1426"/>
              </a:spcAft>
              <a:buClr>
                <a:srgbClr val="f579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7480" indent="-2160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7480" indent="-2160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D458491-9CAC-4977-8496-A7E6E187455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57900"/>
                </a:solidFill>
                <a:latin typeface="Bitstream Vera Sans"/>
              </a:rPr>
              <a:t>Интегритет</a:t>
            </a: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30200" indent="0" algn="ctr">
              <a:lnSpc>
                <a:spcPct val="124000"/>
              </a:lnSpc>
              <a:buNone/>
              <a:tabLst>
                <a:tab algn="l" pos="0"/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mincho"/>
              </a:rPr>
              <a:t>„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mincho"/>
              </a:rPr>
              <a:t>добросъвестност в управлението“, „честност“, „прозрачност“, „почтеност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0" algn="ctr">
              <a:lnSpc>
                <a:spcPct val="124000"/>
              </a:lnSpc>
              <a:buNone/>
              <a:tabLst>
                <a:tab algn="l" pos="0"/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mincho"/>
              </a:rPr>
              <a:t>Диску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0" algn="ctr">
              <a:lnSpc>
                <a:spcPct val="124000"/>
              </a:lnSpc>
              <a:buNone/>
              <a:tabLst>
                <a:tab algn="l" pos="0"/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57900"/>
                </a:solidFill>
                <a:latin typeface="Bitstream Vera Sans"/>
              </a:rPr>
              <a:t>Какво е интегритет?</a:t>
            </a: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02920" y="1238040"/>
            <a:ext cx="9070920" cy="60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30200" indent="-216000">
              <a:lnSpc>
                <a:spcPct val="124000"/>
              </a:lnSpc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mincho"/>
              </a:rPr>
              <a:t>Понятието: надеждно управление, политици, управници и държавни служит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124000"/>
              </a:lnSpc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mincho"/>
              </a:rPr>
              <a:t>Цели: условие за доверие. Гражданите трябва да имат доверие в своето управ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124000"/>
              </a:lnSpc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mincho"/>
              </a:rPr>
              <a:t>Тълкуване: оценка на дилеми, няма черно-бели схеми, значимост на диал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124000"/>
              </a:lnSpc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mincho"/>
              </a:rPr>
              <a:t>Условие: политическо съгласие относно нормите на интегрит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57900"/>
                </a:solidFill>
                <a:latin typeface="Bitstream Vera Sans"/>
              </a:rPr>
              <a:t>Политика на интегритет</a:t>
            </a: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30200" indent="-216000">
              <a:lnSpc>
                <a:spcPct val="124000"/>
              </a:lnSpc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mincho"/>
              </a:rPr>
              <a:t>Описание на цел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124000"/>
              </a:lnSpc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mincho"/>
              </a:rPr>
              <a:t>Мерки за постигане и възстановяване на интегрит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124000"/>
              </a:lnSpc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mincho"/>
              </a:rPr>
              <a:t>Мерки за изграждане на култура на интегритет: хор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124000"/>
              </a:lnSpc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mincho"/>
              </a:rPr>
              <a:t>Мерки за структурен интегритет: организация и процеду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30200" indent="-216000">
              <a:lnSpc>
                <a:spcPct val="124000"/>
              </a:lnSpc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43020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mincho"/>
              </a:rPr>
              <a:t>Гаранции за интегрит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57900"/>
                </a:solidFill>
                <a:latin typeface="Bitstream Vera Sans"/>
              </a:rPr>
              <a:t>Практически примери</a:t>
            </a: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216000">
              <a:lnSpc>
                <a:spcPct val="11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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Дилеми и оценка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-216000">
              <a:lnSpc>
                <a:spcPct val="11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За общински служител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-216000">
              <a:lnSpc>
                <a:spcPct val="11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За управниц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-216000">
              <a:lnSpc>
                <a:spcPct val="11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За политиц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0">
              <a:lnSpc>
                <a:spcPct val="116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57900"/>
                </a:solidFill>
                <a:latin typeface="Bitstream Vera Sans"/>
              </a:rPr>
              <a:t>Ключови въпроси</a:t>
            </a:r>
            <a:endParaRPr b="1" lang="en-US" sz="4400" spc="-1" strike="noStrike">
              <a:solidFill>
                <a:srgbClr val="f57900"/>
              </a:solidFill>
              <a:latin typeface="Bitstream Vera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24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5880" indent="-320760">
              <a:lnSpc>
                <a:spcPct val="116000"/>
              </a:lnSpc>
              <a:spcAft>
                <a:spcPts val="1426"/>
              </a:spcAft>
              <a:buClr>
                <a:srgbClr val="f57900"/>
              </a:buClr>
              <a:buSzPct val="45000"/>
              <a:buFont typeface="Wingdings" charset="2"/>
              <a:buChar char="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Защо интегритетът е важен за общинския съвет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5880" indent="-320760">
              <a:lnSpc>
                <a:spcPct val="116000"/>
              </a:lnSpc>
              <a:spcAft>
                <a:spcPts val="1426"/>
              </a:spcAft>
              <a:buClr>
                <a:srgbClr val="f57900"/>
              </a:buClr>
              <a:buSzPct val="45000"/>
              <a:buFont typeface="Wingdings" charset="2"/>
              <a:buChar char="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Как да бъде упражняван контрол върху разходването на средства от ЕС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5880" indent="-320760">
              <a:lnSpc>
                <a:spcPct val="116000"/>
              </a:lnSpc>
              <a:spcAft>
                <a:spcPts val="1426"/>
              </a:spcAft>
              <a:buClr>
                <a:srgbClr val="f57900"/>
              </a:buClr>
              <a:buSzPct val="45000"/>
              <a:buFont typeface="Wingdings" charset="2"/>
              <a:buChar char="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Как се избягва конфликт на интерес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5880" indent="-320760">
              <a:lnSpc>
                <a:spcPct val="116000"/>
              </a:lnSpc>
              <a:spcAft>
                <a:spcPts val="1426"/>
              </a:spcAft>
              <a:buClr>
                <a:srgbClr val="f57900"/>
              </a:buClr>
              <a:buSzPct val="45000"/>
              <a:buFont typeface="Wingdings" charset="2"/>
              <a:buChar char="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Как се контролира провеждането на процедури по възлагане на обществени поръчк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5880" indent="-320760">
              <a:lnSpc>
                <a:spcPct val="116000"/>
              </a:lnSpc>
              <a:spcAft>
                <a:spcPts val="1426"/>
              </a:spcAft>
              <a:buClr>
                <a:srgbClr val="f57900"/>
              </a:buClr>
              <a:buSzPct val="45000"/>
              <a:buFont typeface="Wingdings" charset="2"/>
              <a:buChar char="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Как се регулират публично-частните партньорства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lena Nedeva</dc:creator>
  <dc:description/>
  <dc:language>en-US</dc:language>
  <cp:lastModifiedBy>Teodora</cp:lastModifiedBy>
  <cp:revision>0</cp:revision>
  <dc:subject/>
  <dc:title/>
</cp:coreProperties>
</file>