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36520" y="763560"/>
            <a:ext cx="54943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move the slid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87A780-60B2-4D2C-8690-E8DE057A92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36520" y="763560"/>
            <a:ext cx="5497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36520" y="763560"/>
            <a:ext cx="5497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36520" y="763560"/>
            <a:ext cx="5497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36520" y="763560"/>
            <a:ext cx="5497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36520" y="763560"/>
            <a:ext cx="5497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65D-3365-41C6-8EE1-07A8E4DF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B56-9A13-4497-BD87-C1748617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C5A-9032-4E77-ACB7-AD448915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252-D0F7-4F57-A971-E84D815A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982-C521-4BE4-80AC-265F5669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51C-025E-4B28-9EE2-ACFDA7E8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4D7-3C7E-4777-B04E-176FDD20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982-6F12-4F60-BE92-3C3DFA10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-73440"/>
            <a:ext cx="9067680" cy="93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532-127B-43E8-BE94-EEFBC141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34F-422C-4DEA-BABD-60AFF905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4C6-2CE5-447A-BB6A-079B4791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5F3-1E59-44E1-9476-E29402CE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6000"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5480" indent="-214200"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7480" indent="-216000"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823690-6074-446C-85D6-64C9896B16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57900"/>
                </a:solidFill>
                <a:latin typeface="Bitstream Vera Sans"/>
              </a:rPr>
              <a:t>Интегритет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4000"/>
              </a:lnSpc>
              <a:buNone/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добросъвестност в управлението“, „честност“, „прозрачност“, „почтеност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0" algn="ctr">
              <a:lnSpc>
                <a:spcPct val="124000"/>
              </a:lnSpc>
              <a:buNone/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Диску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0" algn="ctr">
              <a:lnSpc>
                <a:spcPct val="124000"/>
              </a:lnSpc>
              <a:buNone/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57900"/>
                </a:solidFill>
                <a:latin typeface="Bitstream Vera Sans"/>
              </a:rPr>
              <a:t>Какво е интегритет?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238040"/>
            <a:ext cx="9070920" cy="60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Понятието: надеждно управление, политици, управници и държавни служ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Цели: условие за доверие. Гражданите трябва да имат доверие в своето у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Тълкуване: оценка на дилеми, няма черно-бели схеми, значимост на диа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Условие: политическо съгласие относно нормите на интегри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57900"/>
                </a:solidFill>
                <a:latin typeface="Bitstream Vera Sans"/>
              </a:rPr>
              <a:t>Политика на интегритет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Описание на цел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Мерки за постигане и възстановяване на интегр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Мерки за изграждане на култура на интегритет: хо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Мерки за структурен интегритет: организация и процед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Гаранции за интегр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57900"/>
                </a:solidFill>
                <a:latin typeface="Bitstream Vera Sans"/>
              </a:rPr>
              <a:t>Практически примери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216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Дилеми и оценк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216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За общински служит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216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За управниц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216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За политиц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57900"/>
                </a:solidFill>
                <a:latin typeface="Bitstream Vera Sans"/>
              </a:rPr>
              <a:t>Ключови въпроси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116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Защо интегритетът е важен за общинския съве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к да бъде упражняван контрол върху разходването на средства от ЕС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к се избягва конфликт на интерес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к се контролира провеждането на процедури по възлагане на обществени поръч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к се регулират публично-частните партньорств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ena Nedeva</dc:creator>
  <dc:description/>
  <dc:language>en-US</dc:language>
  <cp:lastModifiedBy>Teodora</cp:lastModifiedBy>
  <cp:revision>0</cp:revision>
  <dc:subject/>
  <dc:title/>
</cp:coreProperties>
</file>