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7124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12440"/>
              <a:gd name="textAreaBottom" fmla="*/ 9712080 h 9712440"/>
            </a:gdLst>
            <a:ahLst/>
            <a:rect l="textAreaLeft" t="textAreaTop" r="textAreaRight" b="textAreaBottom"/>
            <a:pathLst>
              <a:path w="21600" h="30590">
                <a:moveTo>
                  <a:pt x="5" y="0"/>
                </a:moveTo>
                <a:arcTo wR="5" hR="5" stAng="16200000" swAng="-5400000"/>
                <a:lnTo>
                  <a:pt x="0" y="30585"/>
                </a:lnTo>
                <a:arcTo wR="5" hR="5" stAng="10800000" swAng="-5400000"/>
                <a:lnTo>
                  <a:pt x="21595" y="305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38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638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49920" cy="36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848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5"/>
          </p:nvPr>
        </p:nvSpPr>
        <p:spPr>
          <a:xfrm>
            <a:off x="-360" y="9224640"/>
            <a:ext cx="29638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6"/>
          </p:nvPr>
        </p:nvSpPr>
        <p:spPr>
          <a:xfrm>
            <a:off x="3884400" y="9224640"/>
            <a:ext cx="29638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37469-6B5B-49CC-9419-62DFA54AFB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000080" y="728640"/>
            <a:ext cx="4857840" cy="36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7992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9DE7-CE8B-4382-8C39-DD952B84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699840"/>
            <a:ext cx="828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4A34-E289-4307-93C2-9DA68B3A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699840"/>
            <a:ext cx="828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D6F-984D-4068-81B5-951C3F36B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699840"/>
            <a:ext cx="828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14A8-6A12-4AAF-89AC-1BF27A00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699840"/>
            <a:ext cx="828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6B50-4533-4684-8E03-36FC7A0F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699840"/>
            <a:ext cx="828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ACCD-A9E6-4132-938B-B657BF27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699840"/>
            <a:ext cx="828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B47-3DF3-4F45-8119-7D10FA0E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699840"/>
            <a:ext cx="828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0AC5-68F8-428E-AF1F-4A631AC9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395280" y="699840"/>
            <a:ext cx="8283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A1B-D289-4593-9A2B-B75C2E2E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699840"/>
            <a:ext cx="828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6DB0-3264-4FE0-9F62-4146A530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699840"/>
            <a:ext cx="828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E053-266A-4DBD-8255-67CB860B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699840"/>
            <a:ext cx="828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454-2C11-44FE-9300-2C53D334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699840"/>
            <a:ext cx="828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DA5C9-F3CA-4D6A-B5DA-227F63A632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894280" y="117360"/>
            <a:ext cx="692280" cy="71928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979640" y="260280"/>
            <a:ext cx="3382920" cy="576360"/>
            <a:chOff x="1979640" y="260280"/>
            <a:chExt cx="3382920" cy="576360"/>
          </a:xfrm>
        </p:grpSpPr>
        <p:sp>
          <p:nvSpPr>
            <p:cNvPr id="7" name=""/>
            <p:cNvSpPr/>
            <p:nvPr/>
          </p:nvSpPr>
          <p:spPr>
            <a:xfrm>
              <a:off x="4189320" y="573120"/>
              <a:ext cx="1173240" cy="21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1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еративна програма “Административен капацитет”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" name="" descr=""/>
            <p:cNvPicPr/>
            <p:nvPr/>
          </p:nvPicPr>
          <p:blipFill>
            <a:blip r:embed="rId3"/>
            <a:stretch/>
          </p:blipFill>
          <p:spPr>
            <a:xfrm>
              <a:off x="2030400" y="260280"/>
              <a:ext cx="603360" cy="304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" name=""/>
            <p:cNvSpPr/>
            <p:nvPr/>
          </p:nvSpPr>
          <p:spPr>
            <a:xfrm>
              <a:off x="1979640" y="573120"/>
              <a:ext cx="701640" cy="2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вропейски съюз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" name="" descr=""/>
            <p:cNvPicPr/>
            <p:nvPr/>
          </p:nvPicPr>
          <p:blipFill>
            <a:blip r:embed="rId4"/>
            <a:stretch/>
          </p:blipFill>
          <p:spPr>
            <a:xfrm>
              <a:off x="4410000" y="262080"/>
              <a:ext cx="766800" cy="30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3168720" y="260280"/>
              <a:ext cx="701640" cy="3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" name=""/>
            <p:cNvSpPr/>
            <p:nvPr/>
          </p:nvSpPr>
          <p:spPr>
            <a:xfrm>
              <a:off x="3164040" y="573120"/>
              <a:ext cx="701640" cy="2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1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ВЕСТИЦИИ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6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ХОРАТА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e.six@fsw.vu.nl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истеми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за одит на интегрит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Фредерик Си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U University Amsterd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Fe.six@fsw.vu.n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имерни закони и нормативни актов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57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Административно, наказателно и изборно законодателство сре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орупция, злоупотреби и измам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онфликт на интерес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ексуален тормоз и дискримин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Финансова отчетностс и од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авомощия на омбудсм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олитики за интегрит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Етични кодек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Независим контрол на интегрит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90400" y="1052640"/>
            <a:ext cx="515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. Инвентар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11280" y="1844640"/>
            <a:ext cx="8061120" cy="4245120"/>
            <a:chOff x="611280" y="1844640"/>
            <a:chExt cx="8061120" cy="4245120"/>
          </a:xfrm>
        </p:grpSpPr>
        <p:sp>
          <p:nvSpPr>
            <p:cNvPr id="191" name=""/>
            <p:cNvSpPr/>
            <p:nvPr/>
          </p:nvSpPr>
          <p:spPr>
            <a:xfrm>
              <a:off x="4043520" y="5238720"/>
              <a:ext cx="46274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Описание на дефиницията за интегритет, приета от участниците в система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1280" y="5238720"/>
              <a:ext cx="34322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4. Определяне на обхват: дефиниция за интегрит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43520" y="4067280"/>
              <a:ext cx="4627440" cy="11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ние на целевите груп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11280" y="4067280"/>
              <a:ext cx="3432240" cy="11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 Определяне на обхват: чий интегрит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43520" y="3216240"/>
              <a:ext cx="46274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Описание на законите и нормативните документи, които имат отношение към СО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1280" y="3216240"/>
              <a:ext cx="34322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2. Определяне на нормативния кон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43520" y="2367000"/>
              <a:ext cx="46274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Описание на ключови участници в СОИ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1280" y="2367000"/>
              <a:ext cx="34322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1. Идентифициране на основни действащи лиц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043520" y="1844640"/>
              <a:ext cx="46274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телна фаз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1280" y="1844640"/>
              <a:ext cx="34322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ъпка от СО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1280" y="1844640"/>
              <a:ext cx="34322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1280" y="6087960"/>
              <a:ext cx="34322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1280" y="1844640"/>
              <a:ext cx="1440" cy="523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670960" y="1844640"/>
              <a:ext cx="1440" cy="523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43520" y="1844640"/>
              <a:ext cx="4627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1280" y="2367000"/>
              <a:ext cx="1440" cy="849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670960" y="2367000"/>
              <a:ext cx="1440" cy="849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1280" y="3216240"/>
              <a:ext cx="1440" cy="84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670960" y="3216240"/>
              <a:ext cx="1440" cy="84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1280" y="4067280"/>
              <a:ext cx="1440" cy="117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670960" y="4067280"/>
              <a:ext cx="1440" cy="117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1280" y="5238720"/>
              <a:ext cx="1440" cy="849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670960" y="5238720"/>
              <a:ext cx="1440" cy="849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43520" y="6087960"/>
              <a:ext cx="4627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8240" y="936720"/>
            <a:ext cx="638496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 чий интегритет се рабо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00000" y="2205000"/>
            <a:ext cx="7124760" cy="3951360"/>
            <a:chOff x="900000" y="2205000"/>
            <a:chExt cx="7124760" cy="3951360"/>
          </a:xfrm>
        </p:grpSpPr>
        <p:sp>
          <p:nvSpPr>
            <p:cNvPr id="217" name=""/>
            <p:cNvSpPr/>
            <p:nvPr/>
          </p:nvSpPr>
          <p:spPr>
            <a:xfrm>
              <a:off x="900000" y="5576760"/>
              <a:ext cx="71233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раждан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00000" y="4998960"/>
              <a:ext cx="71233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исш корпоративен мениджмънт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00000" y="4422600"/>
              <a:ext cx="71233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курори и съдии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00000" y="3846600"/>
              <a:ext cx="71233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ица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00000" y="2781360"/>
              <a:ext cx="712332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итици и политически назначения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00000" y="2205000"/>
              <a:ext cx="71233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ържавни служител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00000" y="2205000"/>
              <a:ext cx="71233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00000" y="6154560"/>
              <a:ext cx="71233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00000" y="2205000"/>
              <a:ext cx="1800" cy="57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23320" y="2205000"/>
              <a:ext cx="1440" cy="57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000" y="2781360"/>
              <a:ext cx="1800" cy="106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23320" y="2781360"/>
              <a:ext cx="1440" cy="106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3846600"/>
              <a:ext cx="1800" cy="57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023320" y="3846600"/>
              <a:ext cx="1440" cy="57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0000" y="4422600"/>
              <a:ext cx="1800" cy="578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23320" y="4422600"/>
              <a:ext cx="1440" cy="578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00000" y="4998960"/>
              <a:ext cx="1800" cy="57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23320" y="4998960"/>
              <a:ext cx="1440" cy="57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00000" y="5576760"/>
              <a:ext cx="1800" cy="57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23320" y="5576760"/>
              <a:ext cx="1440" cy="577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417320" y="907920"/>
            <a:ext cx="515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. Инвентар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84360" y="1484280"/>
            <a:ext cx="7632720" cy="4532400"/>
            <a:chOff x="684360" y="1484280"/>
            <a:chExt cx="7632720" cy="4532400"/>
          </a:xfrm>
        </p:grpSpPr>
        <p:sp>
          <p:nvSpPr>
            <p:cNvPr id="239" name=""/>
            <p:cNvSpPr/>
            <p:nvPr/>
          </p:nvSpPr>
          <p:spPr>
            <a:xfrm>
              <a:off x="3933720" y="5108400"/>
              <a:ext cx="438156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ние на дефиницията за интегритет, приета от участниците в системат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360" y="5108400"/>
              <a:ext cx="32479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 Определяне на обхват: дефиниция за интегрит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33720" y="3855960"/>
              <a:ext cx="4381560" cy="12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Описание на целевите груп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4360" y="3855960"/>
              <a:ext cx="3247920" cy="12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3. Определяне на обхват: чий интегритет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33720" y="2949480"/>
              <a:ext cx="438156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Описание на законите и нормативните документи, които имат отношение към СО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4360" y="2949480"/>
              <a:ext cx="32479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2. Определяне на нормативния кон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33720" y="2041560"/>
              <a:ext cx="438156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Описание на ключови участници в СОИ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84360" y="2041560"/>
              <a:ext cx="3247920" cy="9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1. Идентифициране на основни действащи лиц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33720" y="1484280"/>
              <a:ext cx="438156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телна фаз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4360" y="1484280"/>
              <a:ext cx="324792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ъпка от СО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4360" y="1484280"/>
              <a:ext cx="3247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4360" y="6014880"/>
              <a:ext cx="3247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4360" y="1484280"/>
              <a:ext cx="1440" cy="55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15280" y="1484280"/>
              <a:ext cx="1800" cy="55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33720" y="1484280"/>
              <a:ext cx="438156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4360" y="2041560"/>
              <a:ext cx="1440" cy="90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15280" y="2041560"/>
              <a:ext cx="1800" cy="90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4360" y="2949480"/>
              <a:ext cx="1440" cy="90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15280" y="2949480"/>
              <a:ext cx="1800" cy="90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4360" y="3855960"/>
              <a:ext cx="1440" cy="1251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15280" y="3855960"/>
              <a:ext cx="1800" cy="1251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4360" y="5108400"/>
              <a:ext cx="1440" cy="90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15280" y="5108400"/>
              <a:ext cx="1800" cy="90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33720" y="6014880"/>
              <a:ext cx="438156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ефиниция за интегрит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116000" y="1557360"/>
            <a:ext cx="6703920" cy="4275000"/>
            <a:chOff x="1116000" y="1557360"/>
            <a:chExt cx="6703920" cy="4275000"/>
          </a:xfrm>
        </p:grpSpPr>
        <p:sp>
          <p:nvSpPr>
            <p:cNvPr id="265" name=""/>
            <p:cNvSpPr/>
            <p:nvPr/>
          </p:nvSpPr>
          <p:spPr>
            <a:xfrm>
              <a:off x="1116000" y="5305320"/>
              <a:ext cx="670248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приемливо поведение извън работ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16000" y="4849920"/>
              <a:ext cx="6702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хищение и злоупотреба с ресур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16000" y="4341960"/>
              <a:ext cx="67024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искриминация и сексуален тормоз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16000" y="3832200"/>
              <a:ext cx="67024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лоупотреба и манипулиране на информаци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16000" y="3376440"/>
              <a:ext cx="67024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лоупотреба с власт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16000" y="2921040"/>
              <a:ext cx="6702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фликт на (частен и публичен) интере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116000" y="2468520"/>
              <a:ext cx="67024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змама и злоупотреби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16000" y="2013120"/>
              <a:ext cx="6702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рупция: непотизъм, клиентелизъм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16000" y="1557360"/>
              <a:ext cx="67024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рупция: подкуп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16000" y="1557360"/>
              <a:ext cx="6702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16000" y="5830920"/>
              <a:ext cx="67024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16000" y="1557360"/>
              <a:ext cx="144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18480" y="1557360"/>
              <a:ext cx="144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16000" y="2013120"/>
              <a:ext cx="144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818480" y="2013120"/>
              <a:ext cx="144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16000" y="2468520"/>
              <a:ext cx="144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18480" y="2468520"/>
              <a:ext cx="144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16000" y="2921040"/>
              <a:ext cx="144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18480" y="2921040"/>
              <a:ext cx="144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16000" y="3376440"/>
              <a:ext cx="144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818480" y="3376440"/>
              <a:ext cx="144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16000" y="3832200"/>
              <a:ext cx="1440" cy="50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18480" y="3832200"/>
              <a:ext cx="1440" cy="50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16000" y="4341960"/>
              <a:ext cx="1440" cy="509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18480" y="4341960"/>
              <a:ext cx="1440" cy="509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16000" y="4849920"/>
              <a:ext cx="144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18480" y="4849920"/>
              <a:ext cx="144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16000" y="5305320"/>
              <a:ext cx="1440" cy="524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18480" y="5305320"/>
              <a:ext cx="1440" cy="524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. Как работи систем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42920" y="1773360"/>
            <a:ext cx="7845480" cy="4740120"/>
            <a:chOff x="1042920" y="1773360"/>
            <a:chExt cx="7845480" cy="4740120"/>
          </a:xfrm>
        </p:grpSpPr>
        <p:sp>
          <p:nvSpPr>
            <p:cNvPr id="296" name=""/>
            <p:cNvSpPr/>
            <p:nvPr/>
          </p:nvSpPr>
          <p:spPr>
            <a:xfrm>
              <a:off x="4384800" y="4925880"/>
              <a:ext cx="4502160" cy="15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механизмите за вазимен контрол на нарушенията за всяка целева гр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42920" y="4925880"/>
              <a:ext cx="3341880" cy="15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7. Баланс на вътрешни и външни взаимен контрол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84800" y="3341520"/>
              <a:ext cx="450216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политиките, прилагани за всяка целева груп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42920" y="3341520"/>
              <a:ext cx="334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6. Баланс между подходи, базирани на правила и на ц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84800" y="2327400"/>
              <a:ext cx="45021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ние на позицията, ролята и правомощията на А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42920" y="2327400"/>
              <a:ext cx="33418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. Позиция и роля Агенцията за местен интегритет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84800" y="1773360"/>
              <a:ext cx="450216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телна фаз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42920" y="1773360"/>
              <a:ext cx="334188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ъпка от СО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42920" y="1773360"/>
              <a:ext cx="33418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42920" y="6512040"/>
              <a:ext cx="33418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42920" y="1773360"/>
              <a:ext cx="1800" cy="554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886960" y="1773360"/>
              <a:ext cx="1440" cy="554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84800" y="1773360"/>
              <a:ext cx="45021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42920" y="2327400"/>
              <a:ext cx="1800" cy="1015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886960" y="2327400"/>
              <a:ext cx="1440" cy="1015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42920" y="3341520"/>
              <a:ext cx="1800" cy="1584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886960" y="3341520"/>
              <a:ext cx="1440" cy="1584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42920" y="4925880"/>
              <a:ext cx="1800" cy="158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886960" y="4925880"/>
              <a:ext cx="1440" cy="1586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384800" y="6512040"/>
              <a:ext cx="45021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Възможни правомощия на АМИ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1560" indent="-601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Никакви (напр. Хага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За: евтино, не е запла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ротив: няма системен подход към интегрит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Част от общинската структура (напр. Амстердам, Хамбург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За: познава добре гра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ротив: не е независ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Независима (напр. Ню Йорк, Лондон, Хонконг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За: независ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ротив: по-далеч от администрация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6978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ъзможни правомощия на 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1560" indent="-601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Център за превенция и експертиза в подкрепа на мениджмъ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евенция, разкриване и разследване на нару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евенция, разкриване, разследване ПЛЮС наказание и санкциониране на нару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. Как работи систем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971640" y="1916280"/>
            <a:ext cx="7632720" cy="4668840"/>
            <a:chOff x="971640" y="1916280"/>
            <a:chExt cx="7632720" cy="4668840"/>
          </a:xfrm>
        </p:grpSpPr>
        <p:sp>
          <p:nvSpPr>
            <p:cNvPr id="322" name=""/>
            <p:cNvSpPr/>
            <p:nvPr/>
          </p:nvSpPr>
          <p:spPr>
            <a:xfrm>
              <a:off x="4221000" y="5021280"/>
              <a:ext cx="437832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механизмите за вазимен контрол на нарушенията за всяка целева група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71640" y="5021280"/>
              <a:ext cx="324936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7. Баланс на вътрешни и външни взаимен контрол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21000" y="3460680"/>
              <a:ext cx="4378320" cy="15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ние на политиките, прилагани за всяка целева груп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71640" y="3460680"/>
              <a:ext cx="3249360" cy="15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. Баланс между подходи, базирани на правила и на ц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21000" y="2460600"/>
              <a:ext cx="437832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позицията, ролята и мандата на А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71640" y="2460600"/>
              <a:ext cx="324936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5. Позиция и роля Агенцията за местен интегрит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221000" y="1916280"/>
              <a:ext cx="43783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телна фаз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71640" y="1916280"/>
              <a:ext cx="32493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ъпки СО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71640" y="1916280"/>
              <a:ext cx="32493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71640" y="6583320"/>
              <a:ext cx="324936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71640" y="1916280"/>
              <a:ext cx="1440" cy="542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602560" y="1916280"/>
              <a:ext cx="1800" cy="542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21000" y="1916280"/>
              <a:ext cx="43783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71640" y="2460600"/>
              <a:ext cx="1440" cy="1000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602560" y="2460600"/>
              <a:ext cx="1800" cy="1000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71640" y="3460680"/>
              <a:ext cx="1440" cy="1560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602560" y="3460680"/>
              <a:ext cx="1800" cy="1560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71640" y="5021280"/>
              <a:ext cx="1440" cy="1562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602560" y="5021280"/>
              <a:ext cx="1800" cy="1562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21000" y="6583320"/>
              <a:ext cx="43783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литики в системата за интегритет на Амстердам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84360" y="2060640"/>
            <a:ext cx="7988040" cy="4244760"/>
            <a:chOff x="684360" y="2060640"/>
            <a:chExt cx="7988040" cy="4244760"/>
          </a:xfrm>
        </p:grpSpPr>
        <p:sp>
          <p:nvSpPr>
            <p:cNvPr id="344" name=""/>
            <p:cNvSpPr/>
            <p:nvPr/>
          </p:nvSpPr>
          <p:spPr>
            <a:xfrm>
              <a:off x="4441680" y="5781600"/>
              <a:ext cx="42292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анкц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4360" y="5781600"/>
              <a:ext cx="375732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41680" y="5259240"/>
              <a:ext cx="42292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знасян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4360" y="5259240"/>
              <a:ext cx="375732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41680" y="4676760"/>
              <a:ext cx="422928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следване/външ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4360" y="4676760"/>
              <a:ext cx="375732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41680" y="4151160"/>
              <a:ext cx="42292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следване/вътреш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4360" y="4151160"/>
              <a:ext cx="375732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41680" y="3625920"/>
              <a:ext cx="422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криван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4360" y="3625920"/>
              <a:ext cx="375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авила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41680" y="3105000"/>
              <a:ext cx="42292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правленски практики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4360" y="3105000"/>
              <a:ext cx="375732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41680" y="2581200"/>
              <a:ext cx="42292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ЧР процеси</a:t>
              </a: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4360" y="2581200"/>
              <a:ext cx="375732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енн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41680" y="2060640"/>
              <a:ext cx="422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струменти на политикат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84360" y="2060640"/>
              <a:ext cx="375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х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4360" y="2060640"/>
              <a:ext cx="37573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4360" y="2060640"/>
              <a:ext cx="1440" cy="520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670960" y="2060640"/>
              <a:ext cx="1440" cy="520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4360" y="6303960"/>
              <a:ext cx="37573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41680" y="2060640"/>
              <a:ext cx="42292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4360" y="2581200"/>
              <a:ext cx="1440" cy="520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70960" y="2581200"/>
              <a:ext cx="1440" cy="520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4360" y="3105000"/>
              <a:ext cx="1440" cy="520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670960" y="3105000"/>
              <a:ext cx="1440" cy="520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4360" y="3625920"/>
              <a:ext cx="1440" cy="520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670960" y="3625920"/>
              <a:ext cx="1440" cy="520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4360" y="4151160"/>
              <a:ext cx="1440" cy="525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670960" y="4151160"/>
              <a:ext cx="1440" cy="525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4360" y="4676760"/>
              <a:ext cx="1440" cy="5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70960" y="4676760"/>
              <a:ext cx="1440" cy="58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4360" y="5259240"/>
              <a:ext cx="1440" cy="520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670960" y="5259240"/>
              <a:ext cx="1440" cy="520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4360" y="5781600"/>
              <a:ext cx="1440" cy="520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670960" y="5781600"/>
              <a:ext cx="1440" cy="520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41680" y="6303960"/>
              <a:ext cx="422928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е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2204640"/>
            <a:ext cx="577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акво е СО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Защо е важна СО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Рамка на СО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илагане на С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. Как работи система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116000" y="1628640"/>
            <a:ext cx="7485120" cy="4956480"/>
            <a:chOff x="1116000" y="1628640"/>
            <a:chExt cx="7485120" cy="4956480"/>
          </a:xfrm>
        </p:grpSpPr>
        <p:sp>
          <p:nvSpPr>
            <p:cNvPr id="382" name=""/>
            <p:cNvSpPr/>
            <p:nvPr/>
          </p:nvSpPr>
          <p:spPr>
            <a:xfrm>
              <a:off x="4303800" y="4925880"/>
              <a:ext cx="429552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ние на механизмите за вазимен контрол на нарушенията за всяка целева група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16000" y="4925880"/>
              <a:ext cx="3187800" cy="16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. Баланс на вътрешен и външен взаимен контрол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03800" y="3267000"/>
              <a:ext cx="429552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политиките, прилагани за всяка целева груп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16000" y="3267000"/>
              <a:ext cx="3187800" cy="16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6. Баланс между подходи, базирани на правила и на ц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03800" y="2205000"/>
              <a:ext cx="429552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позицията, ролята и мандата на АМ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16000" y="2205000"/>
              <a:ext cx="31878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5. Позиция и роля Агенцията за местен интегрит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03800" y="1628640"/>
              <a:ext cx="42955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телна фаз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16000" y="1628640"/>
              <a:ext cx="318780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ъпка от СО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16000" y="1628640"/>
              <a:ext cx="3187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16000" y="6583320"/>
              <a:ext cx="31878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16000" y="1628640"/>
              <a:ext cx="1440" cy="578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599320" y="1628640"/>
              <a:ext cx="1800" cy="5781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03800" y="1628640"/>
              <a:ext cx="42955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16000" y="2205000"/>
              <a:ext cx="1440" cy="106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599320" y="2205000"/>
              <a:ext cx="1800" cy="1062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16000" y="3267000"/>
              <a:ext cx="1440" cy="1656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599320" y="3267000"/>
              <a:ext cx="1800" cy="1656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16000" y="4925880"/>
              <a:ext cx="1440" cy="1657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599320" y="4925880"/>
              <a:ext cx="1800" cy="1657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03800" y="6583320"/>
              <a:ext cx="42955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Механизми за контрол на корупцията: подкупв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4038480" cy="39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Държавни служи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Основна отговорност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ряк ръководит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Вътрешни проверки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Бюро по интегрит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Външни проверк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счетоводител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сметна палата, полиция и съдебна система, (медии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42920" y="1844640"/>
            <a:ext cx="403884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Политически л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Основна отговорност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артийна йерарх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Вътрешни проверк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Външни проверки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лиция и съд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(медии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7708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Механизми за контрол на корупцията: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непотизъм, клиентелизъ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403848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Държ.служи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Основна отговорност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ряк ръководит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Вътрешни проверки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Бюро по интегрит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Външни проверк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(медии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88000" y="2204640"/>
            <a:ext cx="403848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Политически л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Основна отговорност :партийна йерарх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ътрешни проверки: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ъншни проверки :  (медии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85320" y="944280"/>
            <a:ext cx="68295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Възможни компоненти на СО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305000" y="2759040"/>
            <a:ext cx="1863360" cy="88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Общинска йерарх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Км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Съв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Отдели (ЧР, Контрол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93520" y="2685960"/>
            <a:ext cx="2053800" cy="10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Независими пазите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интегрите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Местна агенция за о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Местен обмудсм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Външен счетоводит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916920" y="4724280"/>
            <a:ext cx="6176160" cy="125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Политики и практики на Агенция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Ангажимент на ръководството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Анализ н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Формални процедури за намаляване на р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Етичен кодек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Информираност на служителите и познаване на мерките за избягване на рисков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95280" y="4581360"/>
            <a:ext cx="84247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864560" y="2779560"/>
            <a:ext cx="95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Общинско ни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812000" y="4653000"/>
            <a:ext cx="95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Ниво аген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0920" y="2635200"/>
            <a:ext cx="84247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885080" y="1628640"/>
            <a:ext cx="95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Външно ни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778840" y="1413000"/>
            <a:ext cx="2833920" cy="10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Външни пазители 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интегрит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Граждански контр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Местен или национален омбудсм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Сметна па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413000"/>
            <a:ext cx="1584000" cy="91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Външни пазите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Полиция и съ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Мед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3800" y="3860640"/>
            <a:ext cx="22302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Агенция за местен интегрит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084720" y="1413000"/>
            <a:ext cx="12304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Нормативна б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. Изпъл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68360" y="1341360"/>
            <a:ext cx="7988400" cy="4694400"/>
            <a:chOff x="468360" y="1341360"/>
            <a:chExt cx="7988400" cy="4694400"/>
          </a:xfrm>
        </p:grpSpPr>
        <p:sp>
          <p:nvSpPr>
            <p:cNvPr id="423" name=""/>
            <p:cNvSpPr/>
            <p:nvPr/>
          </p:nvSpPr>
          <p:spPr>
            <a:xfrm>
              <a:off x="3870360" y="3506760"/>
              <a:ext cx="458460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наличните оценки на  (части от) система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8360" y="3506760"/>
              <a:ext cx="340200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9. Ефективност и ефикасно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70360" y="1957320"/>
              <a:ext cx="458460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ние на наличните данни, напр. бюджети, дейности на гражданския контрол, резултати от проучвания и д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8360" y="1957320"/>
              <a:ext cx="340200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. Политическа и обществена подкреп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0360" y="1341360"/>
              <a:ext cx="458460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телна фаз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68360" y="1341360"/>
              <a:ext cx="340200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ъпка от СО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8360" y="1341360"/>
              <a:ext cx="34020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8360" y="6033960"/>
              <a:ext cx="34020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8360" y="1341360"/>
              <a:ext cx="1440" cy="61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454960" y="1341360"/>
              <a:ext cx="1800" cy="61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870360" y="1341360"/>
              <a:ext cx="45846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8360" y="1957320"/>
              <a:ext cx="1440" cy="1549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54960" y="1957320"/>
              <a:ext cx="1800" cy="1549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8360" y="3506760"/>
              <a:ext cx="1440" cy="252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54960" y="3506760"/>
              <a:ext cx="1800" cy="252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70360" y="6033960"/>
              <a:ext cx="45846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. Изпъл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900000" y="1268280"/>
            <a:ext cx="7207200" cy="4694400"/>
            <a:chOff x="900000" y="1268280"/>
            <a:chExt cx="7207200" cy="4694400"/>
          </a:xfrm>
        </p:grpSpPr>
        <p:sp>
          <p:nvSpPr>
            <p:cNvPr id="441" name=""/>
            <p:cNvSpPr/>
            <p:nvPr/>
          </p:nvSpPr>
          <p:spPr>
            <a:xfrm>
              <a:off x="3706920" y="3432240"/>
              <a:ext cx="439884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ние на наличните оценки на  (части от) система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00000" y="3432240"/>
              <a:ext cx="280692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. Ефективност и ефикасно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06920" y="1882800"/>
              <a:ext cx="43988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1360" indent="-171360">
                <a:lnSpc>
                  <a:spcPct val="100000"/>
                </a:lnSpc>
                <a:tabLst>
                  <a:tab algn="l" pos="0"/>
                  <a:tab algn="l" pos="171360"/>
                  <a:tab algn="l" pos="619200"/>
                  <a:tab algn="l" pos="1068480"/>
                  <a:tab algn="l" pos="1517760"/>
                  <a:tab algn="l" pos="1967040"/>
                  <a:tab algn="l" pos="2416320"/>
                  <a:tab algn="l" pos="2865600"/>
                  <a:tab algn="l" pos="3314880"/>
                  <a:tab algn="l" pos="3763800"/>
                  <a:tab algn="l" pos="4213080"/>
                  <a:tab algn="l" pos="4662360"/>
                  <a:tab algn="l" pos="5111640"/>
                  <a:tab algn="l" pos="5560920"/>
                  <a:tab algn="l" pos="6010200"/>
                  <a:tab algn="l" pos="6459480"/>
                  <a:tab algn="l" pos="6908760"/>
                  <a:tab algn="l" pos="7358040"/>
                  <a:tab algn="l" pos="7807320"/>
                  <a:tab algn="l" pos="8256600"/>
                  <a:tab algn="l" pos="8705880"/>
                  <a:tab algn="l" pos="91551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наличните данни, напр. бюджети, дейности на гражданския контрол, резултати от проучвания и д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00000" y="1882800"/>
              <a:ext cx="280692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8. Политическа и обществена подкреп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06920" y="1268280"/>
              <a:ext cx="43988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телна фаз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00000" y="1268280"/>
              <a:ext cx="280692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ъпка от СО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00000" y="1268280"/>
              <a:ext cx="2806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900000" y="5961240"/>
              <a:ext cx="2806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00000" y="1268280"/>
              <a:ext cx="1800" cy="61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105760" y="1268280"/>
              <a:ext cx="1440" cy="615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06920" y="1268280"/>
              <a:ext cx="43988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00000" y="1882800"/>
              <a:ext cx="1800" cy="1549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105760" y="1882800"/>
              <a:ext cx="1440" cy="1549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00000" y="3432240"/>
              <a:ext cx="1800" cy="252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105760" y="3432240"/>
              <a:ext cx="1440" cy="252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706920" y="5961240"/>
              <a:ext cx="43988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е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547280" y="1773000"/>
            <a:ext cx="569916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Какво е СО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Защо СОИ са важ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dddddd"/>
                </a:solidFill>
                <a:latin typeface="Arial"/>
              </a:rPr>
              <a:t>Рамка на С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илагане на СО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илагане на СОИ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2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1560" indent="-601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нгажимент на висшето ръководство: политически и административ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тратегия на прелъстяване: започнете с тези, които имат жел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вишаване на информираността по проблема с корупция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редоставяне на средства и 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 тогава ще ви последват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 а когато спечелите много на своя страна, се заемете с тези, които не желая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1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илагане на СОИ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Изберете няколко спешни нарушени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оруп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змама, злоупотре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онфликт на интере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Изберете кои са целевите груп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ържавни служ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лити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лица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илагане на СОИ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1560" indent="-601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Информирайте висшето ръковод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Решение за план за дей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осочване на необходимостта от политики за интегрит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560" indent="-601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Възможни поли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дходящи финансово административни систе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Етичен код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литики за подаръци, конфликт на интереси и защита на подаващите сигнали за нару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литики срещу корупцият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Обучение за етични стандарти за служителите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1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акво е СОИ: система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за одит на интегрит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лючовите участници, политиките и практиките имат комбинирано влияние върху степента, в която местната власт постига по-високо или по-ниско равнище на интегрит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илагане на СОИ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1560" indent="-601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оцедури и политики при нарушаване на правила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ой може да подава сигнал и къде  (в т.ч. и защита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ой разследва (с какви правомощия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ой се произнася (разглежда доказателствата и издава присъда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ой определя санкции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spcBef>
                <a:spcPts val="700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дходът на „Храма“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0098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628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Източник: Pope (1996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30400" y="3851280"/>
            <a:ext cx="20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11280" y="1628640"/>
            <a:ext cx="8281800" cy="4703760"/>
            <a:chOff x="611280" y="1628640"/>
            <a:chExt cx="8281800" cy="4703760"/>
          </a:xfrm>
        </p:grpSpPr>
        <p:grpSp>
          <p:nvGrpSpPr>
            <p:cNvPr id="72" name=""/>
            <p:cNvGrpSpPr/>
            <p:nvPr/>
          </p:nvGrpSpPr>
          <p:grpSpPr>
            <a:xfrm>
              <a:off x="611280" y="1628640"/>
              <a:ext cx="8281800" cy="4703760"/>
              <a:chOff x="611280" y="1628640"/>
              <a:chExt cx="8281800" cy="470376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611280" y="1628640"/>
                <a:ext cx="8281800" cy="4703760"/>
                <a:chOff x="611280" y="1628640"/>
                <a:chExt cx="8281800" cy="4703760"/>
              </a:xfrm>
            </p:grpSpPr>
            <p:graphicFrame>
              <p:nvGraphicFramePr>
                <p:cNvPr id="74" name=""/>
                <p:cNvGraphicFramePr/>
                <p:nvPr/>
              </p:nvGraphicFramePr>
              <p:xfrm>
                <a:off x="611280" y="1628640"/>
                <a:ext cx="8281800" cy="47037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7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11280" y="1628640"/>
                          <a:ext cx="8281800" cy="4703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76" name=""/>
                <p:cNvSpPr/>
                <p:nvPr/>
              </p:nvSpPr>
              <p:spPr>
                <a:xfrm>
                  <a:off x="1874880" y="1959120"/>
                  <a:ext cx="982800" cy="398520"/>
                </a:xfrm>
                <a:prstGeom prst="rect">
                  <a:avLst/>
                </a:prstGeom>
                <a:solidFill>
                  <a:srgbClr val="6868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Arial"/>
                    </a:rPr>
                    <a:t>Устойчиво развит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260960" y="1959120"/>
                  <a:ext cx="982440" cy="398520"/>
                </a:xfrm>
                <a:prstGeom prst="rect">
                  <a:avLst/>
                </a:prstGeom>
                <a:solidFill>
                  <a:srgbClr val="6868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Arial"/>
                    </a:rPr>
                    <a:t>Върховенство на закон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647040" y="1959120"/>
                  <a:ext cx="841320" cy="398520"/>
                </a:xfrm>
                <a:prstGeom prst="rect">
                  <a:avLst/>
                </a:prstGeom>
                <a:solidFill>
                  <a:srgbClr val="6868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Arial"/>
                    </a:rPr>
                    <a:t>Качество на живо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382760" y="2814480"/>
                  <a:ext cx="6737400" cy="368280"/>
                </a:xfrm>
                <a:prstGeom prst="rect">
                  <a:avLst/>
                </a:prstGeom>
                <a:solidFill>
                  <a:srgbClr val="68686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1800" spc="-1" strike="noStrike">
                      <a:solidFill>
                        <a:srgbClr val="ffffff"/>
                      </a:solidFill>
                      <a:latin typeface="Arial"/>
                    </a:rPr>
                    <a:t>НАЦИОНАЛЕН ИНТЕГРИТЕТ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rot="16200000">
                  <a:off x="662040" y="4601520"/>
                  <a:ext cx="1827000" cy="246240"/>
                </a:xfrm>
                <a:prstGeom prst="rect">
                  <a:avLst/>
                </a:prstGeom>
                <a:solidFill>
                  <a:srgbClr val="3131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624"/>
                    </a:spcBef>
                    <a:tabLst>
                      <a:tab algn="l" pos="0"/>
                      <a:tab algn="l" pos="447840"/>
                      <a:tab algn="l" pos="896760"/>
                      <a:tab algn="l" pos="1346040"/>
                      <a:tab algn="l" pos="1795320"/>
                      <a:tab algn="l" pos="2244600"/>
                      <a:tab algn="l" pos="2693880"/>
                      <a:tab algn="l" pos="3143160"/>
                      <a:tab algn="l" pos="3592440"/>
                      <a:tab algn="l" pos="4041720"/>
                      <a:tab algn="l" pos="4491000"/>
                      <a:tab algn="l" pos="4940280"/>
                      <a:tab algn="l" pos="5389560"/>
                      <a:tab algn="l" pos="5838840"/>
                      <a:tab algn="l" pos="6288120"/>
                      <a:tab algn="l" pos="6737400"/>
                      <a:tab algn="l" pos="7186680"/>
                      <a:tab algn="l" pos="7635960"/>
                      <a:tab algn="l" pos="8085240"/>
                      <a:tab algn="l" pos="8534520"/>
                      <a:tab algn="l" pos="8983800"/>
                      <a:tab algn="l" pos="8985240"/>
                      <a:tab algn="l" pos="9434520"/>
                      <a:tab algn="l" pos="9883800"/>
                      <a:tab algn="l" pos="10333080"/>
                      <a:tab algn="l" pos="10782360"/>
                    </a:tabLst>
                  </a:pPr>
                  <a:r>
                    <a:rPr b="1" lang="en-GB" sz="1000" spc="-1" strike="noStrike">
                      <a:solidFill>
                        <a:srgbClr val="ffffff"/>
                      </a:solidFill>
                      <a:latin typeface="Arial"/>
                    </a:rPr>
                    <a:t>ЗАКОНОДАТЕЛНА ВЛАС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"/>
              <p:cNvSpPr/>
              <p:nvPr/>
            </p:nvSpPr>
            <p:spPr>
              <a:xfrm rot="16200000">
                <a:off x="1287720" y="4538520"/>
                <a:ext cx="1846080" cy="246240"/>
              </a:xfrm>
              <a:prstGeom prst="rect">
                <a:avLst/>
              </a:pr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ИЗПЪЛНИТЕЛНА ВЛАС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6200000">
                <a:off x="1917720" y="4538520"/>
                <a:ext cx="1846080" cy="246240"/>
              </a:xfrm>
              <a:prstGeom prst="rect">
                <a:avLst/>
              </a:pr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СЪДЕБНА ВЛАС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6200000">
                <a:off x="2614680" y="4604760"/>
                <a:ext cx="1716120" cy="246240"/>
              </a:xfrm>
              <a:prstGeom prst="rect">
                <a:avLst/>
              </a:pr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</a:rPr>
                  <a:t>СМЕТНА ПАЛАТ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rot="16200000">
              <a:off x="3312360" y="4541040"/>
              <a:ext cx="1581120" cy="246240"/>
            </a:xfrm>
            <a:prstGeom prst="rect">
              <a:avLst/>
            </a:pr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ОМБУДСМА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3889440" y="4462200"/>
              <a:ext cx="1846080" cy="398520"/>
            </a:xfrm>
            <a:prstGeom prst="rect">
              <a:avLst/>
            </a:pr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МЕХАНИЗМИ ЗА КОНТРОЛ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511160" y="4542480"/>
              <a:ext cx="1714320" cy="246240"/>
            </a:xfrm>
            <a:prstGeom prst="rect">
              <a:avLst/>
            </a:pr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ПУБЛИЧНИ УСЛУГ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5174280" y="4635720"/>
              <a:ext cx="1647720" cy="246240"/>
            </a:xfrm>
            <a:prstGeom prst="rect">
              <a:avLst/>
            </a:pr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МЕДИ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5783040" y="4463640"/>
              <a:ext cx="1846440" cy="398520"/>
            </a:xfrm>
            <a:prstGeom prst="rect">
              <a:avLst/>
            </a:pr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ГРАЖДАНСКО ОБЩЕСТВ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6438960" y="4507920"/>
              <a:ext cx="1649160" cy="246240"/>
            </a:xfrm>
            <a:prstGeom prst="rect">
              <a:avLst/>
            </a:prstGeom>
            <a:solidFill>
              <a:srgbClr val="3131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БИЗНЕСЪ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 rot="16200000">
            <a:off x="6740280" y="4429440"/>
            <a:ext cx="2232000" cy="231120"/>
          </a:xfrm>
          <a:prstGeom prst="rect">
            <a:avLst/>
          </a:prstGeom>
          <a:solidFill>
            <a:srgbClr val="31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МЕЖДУНАРОДНИ ОРГАНИЗ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5734080"/>
            <a:ext cx="7488360" cy="246240"/>
          </a:xfrm>
          <a:prstGeom prst="rect">
            <a:avLst/>
          </a:prstGeom>
          <a:solidFill>
            <a:srgbClr val="31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ОБЩЕСТВЕНА ИНФОРМИРАНОС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6021360"/>
            <a:ext cx="8064360" cy="246240"/>
          </a:xfrm>
          <a:prstGeom prst="rect">
            <a:avLst/>
          </a:prstGeom>
          <a:solidFill>
            <a:srgbClr val="313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ЦЕННОСТИ НА ОБЩЕСТВОТ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Защо е важна СО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Дейности с висок риск за интегритета на местно ниво: градоустройство, строителство, социални дейности, лицензионни режими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Много изкушения: преки и чести контакти между политици/държавни служители и гражда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мка на СО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31640" y="1988640"/>
            <a:ext cx="6491160" cy="27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1560" indent="0"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Три групи и девет стъп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Инвентар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ак работи систем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525600">
              <a:spcBef>
                <a:spcPts val="700"/>
              </a:spcBef>
              <a:buClr>
                <a:srgbClr val="000000"/>
              </a:buClr>
              <a:buFont typeface="Arial"/>
              <a:buAutoNum type="alphaUcPeriod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Изпълн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560" indent="0">
              <a:spcBef>
                <a:spcPts val="799"/>
              </a:spcBef>
              <a:buNone/>
              <a:tabLst>
                <a:tab algn="l" pos="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43160" y="981000"/>
            <a:ext cx="593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. ИНВЕНТАР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042920" y="1773360"/>
            <a:ext cx="7559640" cy="4406760"/>
            <a:chOff x="1042920" y="1773360"/>
            <a:chExt cx="7559640" cy="4406760"/>
          </a:xfrm>
        </p:grpSpPr>
        <p:sp>
          <p:nvSpPr>
            <p:cNvPr id="99" name=""/>
            <p:cNvSpPr/>
            <p:nvPr/>
          </p:nvSpPr>
          <p:spPr>
            <a:xfrm>
              <a:off x="4260960" y="5130720"/>
              <a:ext cx="4340160" cy="10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дефиницията за интегритет, приета от участниците в системат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42920" y="5130720"/>
              <a:ext cx="3218040" cy="10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4. Определяне на обхват: дефиниция за интегрит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60960" y="3971880"/>
              <a:ext cx="434016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целевите груп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42920" y="3971880"/>
              <a:ext cx="32180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3. Определяне на обхват: чий интегритет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60960" y="3130560"/>
              <a:ext cx="434016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законите и нормативните документи, които имат отношение към СО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42920" y="3130560"/>
              <a:ext cx="321804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2. Определяне на нормативния контек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60960" y="2290680"/>
              <a:ext cx="434016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ние на ключови участници в СО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42920" y="2290680"/>
              <a:ext cx="321804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 Идентифициране на основни действащи лиц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60960" y="1773360"/>
              <a:ext cx="43401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телна фаз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42920" y="1773360"/>
              <a:ext cx="32180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ъпка от СОИ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42920" y="1773360"/>
              <a:ext cx="32180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42920" y="6178680"/>
              <a:ext cx="32180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42920" y="1773360"/>
              <a:ext cx="180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601120" y="1773360"/>
              <a:ext cx="1440" cy="517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60960" y="1773360"/>
              <a:ext cx="43401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42920" y="2290680"/>
              <a:ext cx="1800" cy="841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01120" y="2290680"/>
              <a:ext cx="1440" cy="841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42920" y="3130560"/>
              <a:ext cx="1800" cy="839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601120" y="3130560"/>
              <a:ext cx="1440" cy="839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2920" y="3971880"/>
              <a:ext cx="1800" cy="1158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01120" y="3971880"/>
              <a:ext cx="1440" cy="1158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42920" y="5130720"/>
              <a:ext cx="1800" cy="104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01120" y="5130720"/>
              <a:ext cx="1440" cy="10479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60960" y="6178680"/>
              <a:ext cx="434016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ъзможни действащи л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79280" y="1773360"/>
            <a:ext cx="8640720" cy="5083200"/>
            <a:chOff x="179280" y="1773360"/>
            <a:chExt cx="8640720" cy="5083200"/>
          </a:xfrm>
        </p:grpSpPr>
        <p:sp>
          <p:nvSpPr>
            <p:cNvPr id="125" name=""/>
            <p:cNvSpPr/>
            <p:nvPr/>
          </p:nvSpPr>
          <p:spPr>
            <a:xfrm>
              <a:off x="3571920" y="3467160"/>
              <a:ext cx="524520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Независима институц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9280" y="3467160"/>
              <a:ext cx="339264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рол на интегритет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71920" y="2706840"/>
              <a:ext cx="5245200" cy="7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Ангажираност и познаване на рисковете за интегрит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9280" y="2706840"/>
              <a:ext cx="3392640" cy="7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Оперативни дирекц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71920" y="6094440"/>
              <a:ext cx="524520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Независим контрол за повишаване на обществената информиранос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9280" y="6094440"/>
              <a:ext cx="339264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д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920" y="5334120"/>
              <a:ext cx="524520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Независим контрол върху финансит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9280" y="5334120"/>
              <a:ext cx="33926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зависим оди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71920" y="4575240"/>
              <a:ext cx="524520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Независима система за жалби на граждан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80" y="4575240"/>
              <a:ext cx="33926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стен омбудсман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71920" y="4086360"/>
              <a:ext cx="52452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Приоритет върху борбата с корупцият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9280" y="4086360"/>
              <a:ext cx="33926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иция и прокурату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71920" y="2241720"/>
              <a:ext cx="52452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Ангажиранос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9280" y="2241720"/>
              <a:ext cx="33926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ъв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71920" y="1773360"/>
              <a:ext cx="524520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Ангажиранос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9280" y="1773360"/>
              <a:ext cx="339264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34800" indent="-334800">
                <a:lnSpc>
                  <a:spcPct val="100000"/>
                </a:lnSpc>
                <a:tabLst>
                  <a:tab algn="l" pos="0"/>
                  <a:tab algn="l" pos="334800"/>
                  <a:tab algn="l" pos="782640"/>
                  <a:tab algn="l" pos="1231920"/>
                  <a:tab algn="l" pos="1681200"/>
                  <a:tab algn="l" pos="2130480"/>
                  <a:tab algn="l" pos="2579760"/>
                  <a:tab algn="l" pos="3029040"/>
                  <a:tab algn="l" pos="3478320"/>
                  <a:tab algn="l" pos="3927600"/>
                  <a:tab algn="l" pos="4376880"/>
                  <a:tab algn="l" pos="4826160"/>
                  <a:tab algn="l" pos="5275440"/>
                  <a:tab algn="l" pos="5724360"/>
                  <a:tab algn="l" pos="6173640"/>
                  <a:tab algn="l" pos="6622920"/>
                  <a:tab algn="l" pos="7072200"/>
                  <a:tab algn="l" pos="7521480"/>
                  <a:tab algn="l" pos="7970760"/>
                  <a:tab algn="l" pos="8420040"/>
                  <a:tab algn="l" pos="8869320"/>
                  <a:tab algn="l" pos="931860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м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9280" y="1773360"/>
              <a:ext cx="33926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9280" y="1773360"/>
              <a:ext cx="1800" cy="468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818560" y="1773360"/>
              <a:ext cx="1440" cy="468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9280" y="6854760"/>
              <a:ext cx="33926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71920" y="1773360"/>
              <a:ext cx="52452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9280" y="2241720"/>
              <a:ext cx="1800" cy="46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18560" y="2241720"/>
              <a:ext cx="1440" cy="465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9280" y="2706840"/>
              <a:ext cx="1800" cy="758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818560" y="2706840"/>
              <a:ext cx="1440" cy="758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9280" y="3467160"/>
              <a:ext cx="1800" cy="619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818560" y="3467160"/>
              <a:ext cx="1440" cy="619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9280" y="4086360"/>
              <a:ext cx="1800" cy="488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818560" y="4086360"/>
              <a:ext cx="1440" cy="488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9280" y="4575240"/>
              <a:ext cx="1800" cy="760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818560" y="4575240"/>
              <a:ext cx="1440" cy="760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9280" y="5334120"/>
              <a:ext cx="1800" cy="760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818560" y="5334120"/>
              <a:ext cx="1440" cy="760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280" y="6094440"/>
              <a:ext cx="1800" cy="758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18560" y="6094440"/>
              <a:ext cx="1440" cy="758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71920" y="6854760"/>
              <a:ext cx="52452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75240" y="981000"/>
            <a:ext cx="66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. Инвентаризация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24000" y="1700280"/>
            <a:ext cx="7777080" cy="4389480"/>
            <a:chOff x="324000" y="1700280"/>
            <a:chExt cx="7777080" cy="4389480"/>
          </a:xfrm>
        </p:grpSpPr>
        <p:sp>
          <p:nvSpPr>
            <p:cNvPr id="163" name=""/>
            <p:cNvSpPr/>
            <p:nvPr/>
          </p:nvSpPr>
          <p:spPr>
            <a:xfrm>
              <a:off x="3633840" y="5208480"/>
              <a:ext cx="446400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Описание на дефиницията за интегритет, приета от участниците в система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4000" y="5208480"/>
              <a:ext cx="330984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4. Определяне на обхват: дефиниция за интегритет</a:t>
              </a: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33840" y="3997440"/>
              <a:ext cx="4464000" cy="12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Описание на целевите груп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4000" y="3997440"/>
              <a:ext cx="3309840" cy="12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dddddd"/>
                  </a:solidFill>
                  <a:latin typeface="Arial"/>
                </a:rPr>
                <a:t>3. Определяне на обхват: чий интегритет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33840" y="3119400"/>
              <a:ext cx="4464000" cy="8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ние на законите и нормативните документи, които имат отношение към СОИ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4000" y="3119400"/>
              <a:ext cx="3309840" cy="8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 Определяне на нормативния контекс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33840" y="2239920"/>
              <a:ext cx="4464000" cy="8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Описание на ключови участници в СО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4000" y="2239920"/>
              <a:ext cx="3309840" cy="8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dddddd"/>
                  </a:solidFill>
                  <a:latin typeface="Times New Roman"/>
                  <a:ea typeface="Times New Roman"/>
                </a:rPr>
                <a:t>1. Идентифициране на основни действащи лиц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33840" y="1700280"/>
              <a:ext cx="446400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исателна фаз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4000" y="1700280"/>
              <a:ext cx="33098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тъпка от СО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4000" y="1700280"/>
              <a:ext cx="33098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4000" y="6087960"/>
              <a:ext cx="33098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4000" y="1700280"/>
              <a:ext cx="1440" cy="54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99280" y="1700280"/>
              <a:ext cx="1800" cy="54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33840" y="1700280"/>
              <a:ext cx="446400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4000" y="2239920"/>
              <a:ext cx="1440" cy="878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99280" y="2239920"/>
              <a:ext cx="1800" cy="878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4000" y="3119400"/>
              <a:ext cx="1440" cy="87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99280" y="3119400"/>
              <a:ext cx="1800" cy="87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4000" y="3997440"/>
              <a:ext cx="1440" cy="121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99280" y="3997440"/>
              <a:ext cx="1800" cy="1211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4000" y="5208480"/>
              <a:ext cx="1440" cy="879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099280" y="5208480"/>
              <a:ext cx="1800" cy="879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33840" y="6087960"/>
              <a:ext cx="446400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awton and Six, 2008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rederique</dc:creator>
  <dc:description/>
  <dc:language>en-US</dc:language>
  <cp:lastModifiedBy>Milena Nedeva</cp:lastModifiedBy>
  <cp:revision>0</cp:revision>
  <dc:subject/>
  <dc:title>Local Integrity Systems</dc:title>
</cp:coreProperties>
</file>