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49920" cy="36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922464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922464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34E9C-AEBE-42A2-85CA-AFB9914C8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353-FD20-4025-9D33-CDC72B43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EF7-7C60-44B3-8B18-5B0A821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CA0-E7D1-4A55-AB78-1C82669D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5ED-AB44-46DC-A05A-B50FCA52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BD1-B075-4635-BC2C-CB708A72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0F9-C8C9-424C-953E-CDEA779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73D-8A29-47B9-92A5-4F0E8455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8F5-9D7B-43F5-B918-BB42340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95280" y="699840"/>
            <a:ext cx="8283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888-1543-4A69-BCA3-0FD7610F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284-A3FF-4870-9D19-94677ED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E95-9A16-4F19-B108-997C621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F85-D025-4B9A-8602-6DCD3C2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599DC-80E5-4345-AE96-B2641216BA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894280" y="117360"/>
            <a:ext cx="692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79640" y="260280"/>
            <a:ext cx="3382920" cy="576360"/>
            <a:chOff x="1979640" y="260280"/>
            <a:chExt cx="3382920" cy="576360"/>
          </a:xfrm>
        </p:grpSpPr>
        <p:sp>
          <p:nvSpPr>
            <p:cNvPr id="7" name=""/>
            <p:cNvSpPr/>
            <p:nvPr/>
          </p:nvSpPr>
          <p:spPr>
            <a:xfrm>
              <a:off x="4189320" y="573120"/>
              <a:ext cx="11732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еративна програма “Административен капацитет”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2030400" y="260280"/>
              <a:ext cx="603360" cy="30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" name=""/>
            <p:cNvSpPr/>
            <p:nvPr/>
          </p:nvSpPr>
          <p:spPr>
            <a:xfrm>
              <a:off x="1979640" y="573120"/>
              <a:ext cx="70164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вропейски съю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4410000" y="262080"/>
              <a:ext cx="7668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3168720" y="260280"/>
              <a:ext cx="70164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3164040" y="573120"/>
              <a:ext cx="70164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ВЕСТИЦИ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ХОРАТ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.six@fsw.vu.nl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истеми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 одит на интегр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Фредерик Си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 University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.six@fsw.vu.n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имерни закони и нормативни актов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дминистративно, наказателно и изборно законодателство сре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рупция, злоупотреби и изм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нфликт на интерес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ексуален тормоз и дискрим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Финансова отчетностс и од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авомощия на омбудсм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литики за интегрит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Етични коде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езависим контрол на интегри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90400" y="105264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1280" y="1844640"/>
            <a:ext cx="8061120" cy="4245120"/>
            <a:chOff x="611280" y="1844640"/>
            <a:chExt cx="8061120" cy="4245120"/>
          </a:xfrm>
        </p:grpSpPr>
        <p:sp>
          <p:nvSpPr>
            <p:cNvPr id="191" name=""/>
            <p:cNvSpPr/>
            <p:nvPr/>
          </p:nvSpPr>
          <p:spPr>
            <a:xfrm>
              <a:off x="4043520" y="5238720"/>
              <a:ext cx="46274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дефиницията за интегритет, приета от участниците в систем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280" y="5238720"/>
              <a:ext cx="3432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4. Определяне на обхват: дефиниция за интегр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3520" y="4067280"/>
              <a:ext cx="462744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целевите груп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280" y="4067280"/>
              <a:ext cx="343224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Определяне на обхват: чий интегрит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43520" y="3216240"/>
              <a:ext cx="4627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законите и нормативните документи, които имат отношение към СО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280" y="3216240"/>
              <a:ext cx="3432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2. Определяне на нормативния кон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43520" y="2367000"/>
              <a:ext cx="46274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ключови участници в СОИ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280" y="2367000"/>
              <a:ext cx="3432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1. Идентифициране на основни действащи л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43520" y="1844640"/>
              <a:ext cx="46274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280" y="1844640"/>
              <a:ext cx="34322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280" y="1844640"/>
              <a:ext cx="3432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280" y="6087960"/>
              <a:ext cx="3432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280" y="1844640"/>
              <a:ext cx="1440" cy="523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70960" y="1844640"/>
              <a:ext cx="1440" cy="523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43520" y="1844640"/>
              <a:ext cx="4627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280" y="236700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70960" y="236700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280" y="3216240"/>
              <a:ext cx="1440" cy="84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70960" y="3216240"/>
              <a:ext cx="1440" cy="84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280" y="4067280"/>
              <a:ext cx="1440" cy="117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70960" y="4067280"/>
              <a:ext cx="1440" cy="117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523872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70960" y="523872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43520" y="6087960"/>
              <a:ext cx="4627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936720"/>
            <a:ext cx="63849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 чий интегритет се рабо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0000" y="2205000"/>
            <a:ext cx="7124760" cy="3951360"/>
            <a:chOff x="900000" y="2205000"/>
            <a:chExt cx="7124760" cy="3951360"/>
          </a:xfrm>
        </p:grpSpPr>
        <p:sp>
          <p:nvSpPr>
            <p:cNvPr id="217" name=""/>
            <p:cNvSpPr/>
            <p:nvPr/>
          </p:nvSpPr>
          <p:spPr>
            <a:xfrm>
              <a:off x="900000" y="557676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0000" y="499896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сш корпоративен мениджмън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0000" y="4422600"/>
              <a:ext cx="7123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курори и съди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00000" y="384660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ца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0000" y="2781360"/>
              <a:ext cx="71233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тици и политически назначен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0000" y="220500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ържавни служит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0000" y="2205000"/>
              <a:ext cx="71233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0000" y="6154560"/>
              <a:ext cx="71233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00000" y="220500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23320" y="220500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000" y="2781360"/>
              <a:ext cx="180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23320" y="2781360"/>
              <a:ext cx="144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384660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23320" y="384660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4422600"/>
              <a:ext cx="180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23320" y="4422600"/>
              <a:ext cx="144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499896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23320" y="499896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0000" y="557676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3320" y="557676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17320" y="90792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84360" y="1484280"/>
            <a:ext cx="7632720" cy="4532400"/>
            <a:chOff x="684360" y="1484280"/>
            <a:chExt cx="7632720" cy="4532400"/>
          </a:xfrm>
        </p:grpSpPr>
        <p:sp>
          <p:nvSpPr>
            <p:cNvPr id="239" name=""/>
            <p:cNvSpPr/>
            <p:nvPr/>
          </p:nvSpPr>
          <p:spPr>
            <a:xfrm>
              <a:off x="3933720" y="5108400"/>
              <a:ext cx="4381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дефиницията за интегритет, приета от участниците в система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5108400"/>
              <a:ext cx="3247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Определяне на обхват: дефиниция за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3720" y="3855960"/>
              <a:ext cx="438156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целевите гру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4360" y="3855960"/>
              <a:ext cx="324792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3. Определяне на обхват: чий интегритет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33720" y="2949480"/>
              <a:ext cx="4381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законите и нормативните документи, които имат отношение към СО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949480"/>
              <a:ext cx="3247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2. Определяне на нормативния кон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3720" y="2041560"/>
              <a:ext cx="4381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ключови участници в СОИ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2041560"/>
              <a:ext cx="3247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1. Идентифициране на основни действащи л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33720" y="1484280"/>
              <a:ext cx="43815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360" y="1484280"/>
              <a:ext cx="32479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1484280"/>
              <a:ext cx="3247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6014880"/>
              <a:ext cx="3247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4360" y="1484280"/>
              <a:ext cx="144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15280" y="148428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33720" y="1484280"/>
              <a:ext cx="43815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4360" y="2041560"/>
              <a:ext cx="144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15280" y="2041560"/>
              <a:ext cx="180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4360" y="2949480"/>
              <a:ext cx="144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5280" y="2949480"/>
              <a:ext cx="180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4360" y="3855960"/>
              <a:ext cx="1440" cy="1251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15280" y="3855960"/>
              <a:ext cx="1800" cy="1251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4360" y="5108400"/>
              <a:ext cx="144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15280" y="5108400"/>
              <a:ext cx="180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3720" y="6014880"/>
              <a:ext cx="43815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финиция за интегр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116000" y="1557360"/>
            <a:ext cx="6703920" cy="4275000"/>
            <a:chOff x="1116000" y="1557360"/>
            <a:chExt cx="6703920" cy="4275000"/>
          </a:xfrm>
        </p:grpSpPr>
        <p:sp>
          <p:nvSpPr>
            <p:cNvPr id="265" name=""/>
            <p:cNvSpPr/>
            <p:nvPr/>
          </p:nvSpPr>
          <p:spPr>
            <a:xfrm>
              <a:off x="1116000" y="5305320"/>
              <a:ext cx="6702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приемливо поведение извън рабо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16000" y="4849920"/>
              <a:ext cx="670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хищение и злоупотреба с ресур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16000" y="4341960"/>
              <a:ext cx="67024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скриминация и сексуален тормо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16000" y="3832200"/>
              <a:ext cx="67024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лоупотреба и манипулиране на информ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16000" y="3376440"/>
              <a:ext cx="6702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лоупотреба с вла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16000" y="2921040"/>
              <a:ext cx="670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фликт на (частен и публичен) интере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16000" y="2468520"/>
              <a:ext cx="6702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мама и злоупотреб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16000" y="2013120"/>
              <a:ext cx="670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упция: непотизъм, клиентелизъм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16000" y="1557360"/>
              <a:ext cx="6702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упция: подкуп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16000" y="1557360"/>
              <a:ext cx="6702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16000" y="5830920"/>
              <a:ext cx="6702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16000" y="155736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18480" y="155736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6000" y="20131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18480" y="20131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6000" y="246852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480" y="246852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16000" y="292104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8480" y="292104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16000" y="337644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18480" y="337644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16000" y="3832200"/>
              <a:ext cx="144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18480" y="3832200"/>
              <a:ext cx="144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16000" y="4341960"/>
              <a:ext cx="1440" cy="50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8480" y="4341960"/>
              <a:ext cx="1440" cy="50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16000" y="48499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8480" y="48499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6000" y="5305320"/>
              <a:ext cx="1440" cy="524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18480" y="5305320"/>
              <a:ext cx="1440" cy="524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Как работи систе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42920" y="1773360"/>
            <a:ext cx="7845480" cy="4740120"/>
            <a:chOff x="1042920" y="1773360"/>
            <a:chExt cx="7845480" cy="4740120"/>
          </a:xfrm>
        </p:grpSpPr>
        <p:sp>
          <p:nvSpPr>
            <p:cNvPr id="296" name=""/>
            <p:cNvSpPr/>
            <p:nvPr/>
          </p:nvSpPr>
          <p:spPr>
            <a:xfrm>
              <a:off x="4384800" y="4925880"/>
              <a:ext cx="450216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механизмите за вазимен контрол на нарушенията за всяка целева гр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42920" y="4925880"/>
              <a:ext cx="33418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7. Баланс на вътрешни и външни взаимен контр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84800" y="3341520"/>
              <a:ext cx="45021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литиките, прилагани за всяка целева гру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42920" y="3341520"/>
              <a:ext cx="334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6. Баланс между подходи, базирани на правила и на ц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84800" y="2327400"/>
              <a:ext cx="4502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позицията, ролята и правомощията на 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42920" y="2327400"/>
              <a:ext cx="3341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 Позиция и роля Агенцията за местен интегрите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84800" y="1773360"/>
              <a:ext cx="45021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2920" y="1773360"/>
              <a:ext cx="33418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2920" y="1773360"/>
              <a:ext cx="3341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42920" y="6512040"/>
              <a:ext cx="3341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42920" y="1773360"/>
              <a:ext cx="1800" cy="554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86960" y="1773360"/>
              <a:ext cx="1440" cy="554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84800" y="1773360"/>
              <a:ext cx="4502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2327400"/>
              <a:ext cx="180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886960" y="2327400"/>
              <a:ext cx="144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42920" y="3341520"/>
              <a:ext cx="1800" cy="158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86960" y="3341520"/>
              <a:ext cx="1440" cy="158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42920" y="4925880"/>
              <a:ext cx="1800" cy="158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86960" y="4925880"/>
              <a:ext cx="1440" cy="158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84800" y="6512040"/>
              <a:ext cx="4502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ъзможни правомощия на АМ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Никакви (напр. Хага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: евтино, не е запл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тив: няма системен подход към интегри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 от общинската структура (напр. Амстердам, Хамбург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: познава добре 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тив: не е незави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Независима (напр. Ню Йорк, Лондон, Хонконг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: незави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тив: по-далеч от администраци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697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ъзможни правомощия на 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нтър за превенция и експертиза в подкрепа на мениджмъ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венция, разкриване и разследване на нару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венция, разкриване, разследване ПЛЮС наказание и санкциониране на нару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Как работи систе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71640" y="1916280"/>
            <a:ext cx="7632720" cy="4668840"/>
            <a:chOff x="971640" y="1916280"/>
            <a:chExt cx="7632720" cy="4668840"/>
          </a:xfrm>
        </p:grpSpPr>
        <p:sp>
          <p:nvSpPr>
            <p:cNvPr id="322" name=""/>
            <p:cNvSpPr/>
            <p:nvPr/>
          </p:nvSpPr>
          <p:spPr>
            <a:xfrm>
              <a:off x="4221000" y="5021280"/>
              <a:ext cx="4378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механизмите за вазимен контрол на нарушенията за всяка целева група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71640" y="5021280"/>
              <a:ext cx="324936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7. Баланс на вътрешни и външни взаимен контр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1000" y="3460680"/>
              <a:ext cx="437832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политиките, прилагани за всяка целева гру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71640" y="3460680"/>
              <a:ext cx="324936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 Баланс между подходи, базирани на правила и на ц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21000" y="2460600"/>
              <a:ext cx="43783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зицията, ролята и мандата на 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1640" y="2460600"/>
              <a:ext cx="32493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5. Позиция и роля Агенцията за местен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21000" y="1916280"/>
              <a:ext cx="43783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71640" y="1916280"/>
              <a:ext cx="3249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и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1640" y="1916280"/>
              <a:ext cx="3249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71640" y="6583320"/>
              <a:ext cx="32493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71640" y="1916280"/>
              <a:ext cx="1440" cy="54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02560" y="1916280"/>
              <a:ext cx="1800" cy="54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21000" y="1916280"/>
              <a:ext cx="4378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71640" y="2460600"/>
              <a:ext cx="1440" cy="100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02560" y="2460600"/>
              <a:ext cx="1800" cy="100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71640" y="3460680"/>
              <a:ext cx="1440" cy="1560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2560" y="3460680"/>
              <a:ext cx="1800" cy="1560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1640" y="5021280"/>
              <a:ext cx="1440" cy="1562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02560" y="5021280"/>
              <a:ext cx="1800" cy="1562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1000" y="6583320"/>
              <a:ext cx="43783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итики в системата за интегритет на Амстердам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4360" y="2060640"/>
            <a:ext cx="7988040" cy="4244760"/>
            <a:chOff x="684360" y="2060640"/>
            <a:chExt cx="7988040" cy="4244760"/>
          </a:xfrm>
        </p:grpSpPr>
        <p:sp>
          <p:nvSpPr>
            <p:cNvPr id="344" name=""/>
            <p:cNvSpPr/>
            <p:nvPr/>
          </p:nvSpPr>
          <p:spPr>
            <a:xfrm>
              <a:off x="4441680" y="578160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нк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4360" y="578160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41680" y="525924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нася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4360" y="525924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41680" y="4676760"/>
              <a:ext cx="42292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следване/външ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4360" y="4676760"/>
              <a:ext cx="3757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41680" y="4151160"/>
              <a:ext cx="42292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следване/вътреш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4360" y="4151160"/>
              <a:ext cx="37573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41680" y="3625920"/>
              <a:ext cx="42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крива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4360" y="3625920"/>
              <a:ext cx="375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л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41680" y="310500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равленски практик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60" y="310500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41680" y="258120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Р процеси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4360" y="258120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41680" y="2060640"/>
              <a:ext cx="42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менти на политика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4360" y="2060640"/>
              <a:ext cx="375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4360" y="2060640"/>
              <a:ext cx="3757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4360" y="206064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70960" y="206064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4360" y="6303960"/>
              <a:ext cx="3757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41680" y="2060640"/>
              <a:ext cx="42292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360" y="25812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70960" y="25812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4360" y="31050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70960" y="31050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4360" y="362592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670960" y="362592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4360" y="4151160"/>
              <a:ext cx="1440" cy="525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70960" y="4151160"/>
              <a:ext cx="1440" cy="525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4360" y="4676760"/>
              <a:ext cx="144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70960" y="4676760"/>
              <a:ext cx="144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4360" y="525924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70960" y="525924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4360" y="57816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70960" y="57816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41680" y="6303960"/>
              <a:ext cx="42292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2204640"/>
            <a:ext cx="577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кво е С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що е важна С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Рамка на СО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лагане на С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Как работи систе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16000" y="1628640"/>
            <a:ext cx="7485120" cy="4956480"/>
            <a:chOff x="1116000" y="1628640"/>
            <a:chExt cx="7485120" cy="4956480"/>
          </a:xfrm>
        </p:grpSpPr>
        <p:sp>
          <p:nvSpPr>
            <p:cNvPr id="382" name=""/>
            <p:cNvSpPr/>
            <p:nvPr/>
          </p:nvSpPr>
          <p:spPr>
            <a:xfrm>
              <a:off x="4303800" y="4925880"/>
              <a:ext cx="429552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механизмите за вазимен контрол на нарушенията за всяка целева група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16000" y="4925880"/>
              <a:ext cx="3187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. Баланс на вътрешен и външен взаимен контрол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03800" y="3267000"/>
              <a:ext cx="429552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литиките, прилагани за всяка целева гру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16000" y="3267000"/>
              <a:ext cx="31878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6. Баланс между подходи, базирани на правила и на ц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03800" y="2205000"/>
              <a:ext cx="42955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зицията, ролята и мандата на 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6000" y="2205000"/>
              <a:ext cx="31878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5. Позиция и роля Агенцията за местен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03800" y="1628640"/>
              <a:ext cx="4295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16000" y="1628640"/>
              <a:ext cx="3187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16000" y="1628640"/>
              <a:ext cx="3187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16000" y="6583320"/>
              <a:ext cx="3187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16000" y="1628640"/>
              <a:ext cx="144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99320" y="1628640"/>
              <a:ext cx="180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03800" y="1628640"/>
              <a:ext cx="42955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16000" y="2205000"/>
              <a:ext cx="144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99320" y="2205000"/>
              <a:ext cx="180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16000" y="3267000"/>
              <a:ext cx="1440" cy="165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599320" y="3267000"/>
              <a:ext cx="1800" cy="165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16000" y="4925880"/>
              <a:ext cx="1440" cy="1657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599320" y="4925880"/>
              <a:ext cx="1800" cy="1657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03800" y="6583320"/>
              <a:ext cx="42955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Механизми за контрол на корупцията: подкуп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Държавни служ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як ръководи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трешни проверк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Бюро по интегр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ншни провер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счетоводите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метна палата, полиция и съдебна система,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Политически 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артийна йерар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трешни провер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ншни проверк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ция и съ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770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Механизми за контрол на корупцията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непотизъм, клиентелизъ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03848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Държ.служ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як ръководи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трешни проверк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Бюро по интегр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ншни провер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8000" y="2204640"/>
            <a:ext cx="403848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Политически 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:партийна йерар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ътрешни проверки: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ъншни проверки : 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85320" y="944280"/>
            <a:ext cx="68295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Възможни компоненти на СО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05000" y="2759040"/>
            <a:ext cx="1863360" cy="88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Общинска йерарх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К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Съ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Отдели (ЧР, Контрол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3520" y="2685960"/>
            <a:ext cx="205380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Независими пазит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интегрит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стна агенция за о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стен обмудс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Външен счетоводи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16920" y="4724280"/>
            <a:ext cx="6176160" cy="125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Политики и практики на Агенци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Ангажимент на ръководството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Анализ н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Формални процедури за намаляване н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Етичен ко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Информираност на служителите и познаване на мерките за избягване на рисков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4581360"/>
            <a:ext cx="8424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64560" y="2779560"/>
            <a:ext cx="95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Общинско н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812000" y="465300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Ниво аге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2635200"/>
            <a:ext cx="8424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85080" y="162864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Външно н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8840" y="1413000"/>
            <a:ext cx="283392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Външни пазители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интегрит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Граждански контр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стен или национален омбудс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Сметна па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413000"/>
            <a:ext cx="1584000" cy="91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Външни пазит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Полиция и съ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3800" y="3860640"/>
            <a:ext cx="22302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Агенция за местен интегр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84720" y="1413000"/>
            <a:ext cx="12304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Нормативна б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. Изпъ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68360" y="1341360"/>
            <a:ext cx="7988400" cy="4694400"/>
            <a:chOff x="468360" y="1341360"/>
            <a:chExt cx="7988400" cy="4694400"/>
          </a:xfrm>
        </p:grpSpPr>
        <p:sp>
          <p:nvSpPr>
            <p:cNvPr id="423" name=""/>
            <p:cNvSpPr/>
            <p:nvPr/>
          </p:nvSpPr>
          <p:spPr>
            <a:xfrm>
              <a:off x="3870360" y="3506760"/>
              <a:ext cx="45846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наличните оценки на  (части от) систе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8360" y="3506760"/>
              <a:ext cx="34020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9. Ефективност и ефикас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70360" y="1957320"/>
              <a:ext cx="45846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наличните данни, напр. бюджети, дейности на гражданския контрол, резултати от проучвания и д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8360" y="1957320"/>
              <a:ext cx="34020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. Политическа и обществена подкре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0360" y="1341360"/>
              <a:ext cx="45846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8360" y="1341360"/>
              <a:ext cx="34020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8360" y="1341360"/>
              <a:ext cx="34020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8360" y="6033960"/>
              <a:ext cx="34020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8360" y="1341360"/>
              <a:ext cx="144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54960" y="1341360"/>
              <a:ext cx="180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0360" y="1341360"/>
              <a:ext cx="45846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8360" y="1957320"/>
              <a:ext cx="144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54960" y="1957320"/>
              <a:ext cx="180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8360" y="3506760"/>
              <a:ext cx="144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54960" y="3506760"/>
              <a:ext cx="180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0360" y="6033960"/>
              <a:ext cx="45846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. Изпъ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00000" y="1268280"/>
            <a:ext cx="7207200" cy="4694400"/>
            <a:chOff x="900000" y="1268280"/>
            <a:chExt cx="7207200" cy="4694400"/>
          </a:xfrm>
        </p:grpSpPr>
        <p:sp>
          <p:nvSpPr>
            <p:cNvPr id="441" name=""/>
            <p:cNvSpPr/>
            <p:nvPr/>
          </p:nvSpPr>
          <p:spPr>
            <a:xfrm>
              <a:off x="3706920" y="3432240"/>
              <a:ext cx="439884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наличните оценки на  (части от) систе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0000" y="3432240"/>
              <a:ext cx="2806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. Ефективност и ефикас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6920" y="1882800"/>
              <a:ext cx="43988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00000"/>
                </a:lnSpc>
                <a:tabLst>
                  <a:tab algn="l" pos="0"/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наличните данни, напр. бюджети, дейности на гражданския контрол, резултати от проучвания и д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00000" y="1882800"/>
              <a:ext cx="280692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8. Политическа и обществена подкре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06920" y="1268280"/>
              <a:ext cx="43988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00000" y="1268280"/>
              <a:ext cx="28069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0000" y="1268280"/>
              <a:ext cx="2806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00000" y="5961240"/>
              <a:ext cx="2806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0000" y="1268280"/>
              <a:ext cx="180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05760" y="1268280"/>
              <a:ext cx="144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6920" y="1268280"/>
              <a:ext cx="43988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00000" y="1882800"/>
              <a:ext cx="180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05760" y="1882800"/>
              <a:ext cx="144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000" y="3432240"/>
              <a:ext cx="180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05760" y="3432240"/>
              <a:ext cx="144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06920" y="5961240"/>
              <a:ext cx="43988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47280" y="1773000"/>
            <a:ext cx="5699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Какво е С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Защо СОИ са важ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Рамка на С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лагане на СО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2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нгажимент на висшето ръководство: политически и административ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атегия на прелъстяване: започнете с тези, които имат жел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по проблема с корупци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едоставяне на средства и 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 тогава ще ви последват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 а когато спечелите много на своя страна, се заемете с тези, които не желая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зберете няколко спешни наруш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ру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змама, злоупотре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нфликт на интер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зберете кои са целевите гр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ържавни слу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ца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нформирайте висшето ръковод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ешение за план за 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сочване на необходимостта от политики за интегр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ъзможни поли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дходящи финансово административни систе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Етичен ко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тики за подаръци, конфликт на интереси и защита на подаващите сигнали за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тики срещу корупция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бучение за етични стандарти за служителит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во е СОИ: систе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 одит на интегрит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лючовите участници, политиките и практиките имат комбинирано влияние върху степента, в която местната власт постига по-високо или по-ниско равнище на интегрит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цедури и политики при нарушаване на правил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може да подава сигнал и къде  (в т.ч. и защит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разследва (с какви правомощия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се произнася (разглежда доказателствата и издава присъд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определя санкци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ходът на „Храма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09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628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Източник: Pope (1996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30400" y="38512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11280" y="1628640"/>
            <a:ext cx="8281800" cy="4703760"/>
            <a:chOff x="611280" y="1628640"/>
            <a:chExt cx="8281800" cy="4703760"/>
          </a:xfrm>
        </p:grpSpPr>
        <p:grpSp>
          <p:nvGrpSpPr>
            <p:cNvPr id="72" name=""/>
            <p:cNvGrpSpPr/>
            <p:nvPr/>
          </p:nvGrpSpPr>
          <p:grpSpPr>
            <a:xfrm>
              <a:off x="611280" y="1628640"/>
              <a:ext cx="8281800" cy="4703760"/>
              <a:chOff x="611280" y="1628640"/>
              <a:chExt cx="8281800" cy="470376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11280" y="1628640"/>
                <a:ext cx="8281800" cy="4703760"/>
                <a:chOff x="611280" y="1628640"/>
                <a:chExt cx="8281800" cy="4703760"/>
              </a:xfrm>
            </p:grpSpPr>
            <p:graphicFrame>
              <p:nvGraphicFramePr>
                <p:cNvPr id="74" name=""/>
                <p:cNvGraphicFramePr/>
                <p:nvPr/>
              </p:nvGraphicFramePr>
              <p:xfrm>
                <a:off x="611280" y="1628640"/>
                <a:ext cx="8281800" cy="4703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11280" y="1628640"/>
                          <a:ext cx="8281800" cy="4703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6" name=""/>
                <p:cNvSpPr/>
                <p:nvPr/>
              </p:nvSpPr>
              <p:spPr>
                <a:xfrm>
                  <a:off x="1874880" y="1959120"/>
                  <a:ext cx="982800" cy="39852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Устойчиво развит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260960" y="1959120"/>
                  <a:ext cx="982440" cy="39852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Върховенство на закон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47040" y="1959120"/>
                  <a:ext cx="841320" cy="39852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Качество на живо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382760" y="2814480"/>
                  <a:ext cx="6737400" cy="36828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Arial"/>
                    </a:rPr>
                    <a:t>НАЦИОНАЛЕН ИНТЕГРИТЕ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6200000">
                  <a:off x="662040" y="4601520"/>
                  <a:ext cx="1827000" cy="246240"/>
                </a:xfrm>
                <a:prstGeom prst="rect">
                  <a:avLst/>
                </a:prstGeom>
                <a:solidFill>
                  <a:srgbClr val="3131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ЗАКОНОДАТЕЛНА ВЛАС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rot="16200000">
                <a:off x="1287720" y="4538520"/>
                <a:ext cx="1846080" cy="24624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ИЗПЪЛНИТЕЛНА ВЛАС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1917720" y="4538520"/>
                <a:ext cx="1846080" cy="24624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СЪДЕБНА ВЛАС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2614680" y="4604760"/>
                <a:ext cx="1716120" cy="24624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СМЕТНА ПАЛАТ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rot="16200000">
              <a:off x="3312360" y="4541040"/>
              <a:ext cx="158112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ОМБУДСМ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3889440" y="4462200"/>
              <a:ext cx="1846080" cy="39852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МЕХАНИЗМИ ЗА КОНТРО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11160" y="4542480"/>
              <a:ext cx="171432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ПУБЛИЧНИ УСЛ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5174280" y="4635720"/>
              <a:ext cx="164772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МЕД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5783040" y="4463640"/>
              <a:ext cx="1846440" cy="39852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ГРАЖДАНСКО ОБЩЕСТВ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6438960" y="4507920"/>
              <a:ext cx="164916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БИЗНЕСЪ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 rot="16200000">
            <a:off x="6740280" y="4429440"/>
            <a:ext cx="2232000" cy="231120"/>
          </a:xfrm>
          <a:prstGeom prst="rect">
            <a:avLst/>
          </a:prstGeom>
          <a:solidFill>
            <a:srgbClr val="31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МЕЖДУНАРОДНИ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734080"/>
            <a:ext cx="7488360" cy="246240"/>
          </a:xfrm>
          <a:prstGeom prst="rect">
            <a:avLst/>
          </a:prstGeom>
          <a:solidFill>
            <a:srgbClr val="31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ОБЩЕСТВЕНА ИНФОРМИРАН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6021360"/>
            <a:ext cx="8064360" cy="246240"/>
          </a:xfrm>
          <a:prstGeom prst="rect">
            <a:avLst/>
          </a:prstGeom>
          <a:solidFill>
            <a:srgbClr val="31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ЦЕННОСТИ НА ОБЩЕСТВО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що е важна СО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ейности с висок риск за интегритета на местно ниво: градоустройство, строителство, социални дейности, лицензионни режим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ного изкушения: преки и чести контакти между политици/държавни служители и гражд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мка на СО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988640"/>
            <a:ext cx="649116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ри групи и девет стъп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нвентар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ак работи систе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зпъл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43160" y="981000"/>
            <a:ext cx="59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1773360"/>
            <a:ext cx="7559640" cy="4406760"/>
            <a:chOff x="1042920" y="1773360"/>
            <a:chExt cx="7559640" cy="4406760"/>
          </a:xfrm>
        </p:grpSpPr>
        <p:sp>
          <p:nvSpPr>
            <p:cNvPr id="99" name=""/>
            <p:cNvSpPr/>
            <p:nvPr/>
          </p:nvSpPr>
          <p:spPr>
            <a:xfrm>
              <a:off x="4260960" y="5130720"/>
              <a:ext cx="434016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дефиницията за интегритет, приета от участниците в система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2920" y="5130720"/>
              <a:ext cx="32180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4. Определяне на обхват: дефиниция за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0960" y="3971880"/>
              <a:ext cx="43401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целевите груп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2920" y="3971880"/>
              <a:ext cx="32180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3. Определяне на обхват: чий интегрит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0960" y="3130560"/>
              <a:ext cx="434016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законите и нормативните документи, които имат отношение към СО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42920" y="3130560"/>
              <a:ext cx="32180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2. Определяне на нормативния контек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0960" y="2290680"/>
              <a:ext cx="434016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ключови участници в СО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2290680"/>
              <a:ext cx="321804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Идентифициране на основни действащи лиц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0960" y="1773360"/>
              <a:ext cx="43401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42920" y="1773360"/>
              <a:ext cx="3218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42920" y="1773360"/>
              <a:ext cx="32180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42920" y="6178680"/>
              <a:ext cx="32180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2920" y="1773360"/>
              <a:ext cx="180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01120" y="1773360"/>
              <a:ext cx="144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0960" y="1773360"/>
              <a:ext cx="4340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2920" y="2290680"/>
              <a:ext cx="1800" cy="84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01120" y="2290680"/>
              <a:ext cx="1440" cy="84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2920" y="3130560"/>
              <a:ext cx="1800" cy="839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01120" y="3130560"/>
              <a:ext cx="1440" cy="839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2920" y="3971880"/>
              <a:ext cx="1800" cy="115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01120" y="3971880"/>
              <a:ext cx="1440" cy="115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2920" y="5130720"/>
              <a:ext cx="1800" cy="104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01120" y="5130720"/>
              <a:ext cx="1440" cy="104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0960" y="6178680"/>
              <a:ext cx="4340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ъзможни действащи л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79280" y="1773360"/>
            <a:ext cx="8640720" cy="5083200"/>
            <a:chOff x="179280" y="1773360"/>
            <a:chExt cx="8640720" cy="5083200"/>
          </a:xfrm>
        </p:grpSpPr>
        <p:sp>
          <p:nvSpPr>
            <p:cNvPr id="125" name=""/>
            <p:cNvSpPr/>
            <p:nvPr/>
          </p:nvSpPr>
          <p:spPr>
            <a:xfrm>
              <a:off x="3571920" y="3467160"/>
              <a:ext cx="5245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а институ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3467160"/>
              <a:ext cx="33926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ол на интегрит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1920" y="2706840"/>
              <a:ext cx="524520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гажираност и познаване на рисковете за интегрит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80" y="2706840"/>
              <a:ext cx="33926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Оперативни дирек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71920" y="6094440"/>
              <a:ext cx="52452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 контрол за повишаване на обществената информиранос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80" y="6094440"/>
              <a:ext cx="3392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д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920" y="5334120"/>
              <a:ext cx="52452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 контрол върху финанси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80" y="5334120"/>
              <a:ext cx="33926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зависим од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71920" y="4575240"/>
              <a:ext cx="52452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а система за жалби на граждан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4575240"/>
              <a:ext cx="33926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стен омбудсма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1920" y="4086360"/>
              <a:ext cx="5245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иоритет върху борбата с корупция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80" y="4086360"/>
              <a:ext cx="33926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ция и прокура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71920" y="2241720"/>
              <a:ext cx="5245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гажирано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80" y="2241720"/>
              <a:ext cx="33926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ъв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1920" y="1773360"/>
              <a:ext cx="5245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гажирано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80" y="1773360"/>
              <a:ext cx="33926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80" y="1773360"/>
              <a:ext cx="3392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80" y="1773360"/>
              <a:ext cx="1800" cy="46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18560" y="1773360"/>
              <a:ext cx="1440" cy="46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9280" y="6854760"/>
              <a:ext cx="3392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71920" y="1773360"/>
              <a:ext cx="52452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280" y="2241720"/>
              <a:ext cx="1800" cy="46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18560" y="2241720"/>
              <a:ext cx="1440" cy="46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2706840"/>
              <a:ext cx="1800" cy="75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18560" y="2706840"/>
              <a:ext cx="1440" cy="75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80" y="3467160"/>
              <a:ext cx="1800" cy="619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18560" y="3467160"/>
              <a:ext cx="1440" cy="619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4086360"/>
              <a:ext cx="1800" cy="48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18560" y="4086360"/>
              <a:ext cx="1440" cy="48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4575240"/>
              <a:ext cx="180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18560" y="4575240"/>
              <a:ext cx="144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5334120"/>
              <a:ext cx="180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18560" y="5334120"/>
              <a:ext cx="144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6094440"/>
              <a:ext cx="1800" cy="75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18560" y="6094440"/>
              <a:ext cx="1440" cy="75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6854760"/>
              <a:ext cx="52452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75240" y="981000"/>
            <a:ext cx="66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1700280"/>
            <a:ext cx="7777080" cy="4389480"/>
            <a:chOff x="324000" y="1700280"/>
            <a:chExt cx="7777080" cy="4389480"/>
          </a:xfrm>
        </p:grpSpPr>
        <p:sp>
          <p:nvSpPr>
            <p:cNvPr id="163" name=""/>
            <p:cNvSpPr/>
            <p:nvPr/>
          </p:nvSpPr>
          <p:spPr>
            <a:xfrm>
              <a:off x="3633840" y="5208480"/>
              <a:ext cx="44640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дефиницията за интегритет, приета от участниците в систем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5208480"/>
              <a:ext cx="33098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4. Определяне на обхват: дефиниция за интегритет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33840" y="3997440"/>
              <a:ext cx="446400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целевите гру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000" y="3997440"/>
              <a:ext cx="330984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3. Определяне на обхват: чий интегритет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3840" y="3119400"/>
              <a:ext cx="446400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законите и нормативните документи, които имат отношение към СО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4000" y="3119400"/>
              <a:ext cx="330984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Определяне на нормативния контекс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3840" y="2239920"/>
              <a:ext cx="446400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ключови участници в СО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2239920"/>
              <a:ext cx="33098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. Идентифициране на основни действащи лиц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33840" y="1700280"/>
              <a:ext cx="44640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700280"/>
              <a:ext cx="33098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1700280"/>
              <a:ext cx="33098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6087960"/>
              <a:ext cx="33098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1700280"/>
              <a:ext cx="1440" cy="54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99280" y="1700280"/>
              <a:ext cx="1800" cy="54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3840" y="1700280"/>
              <a:ext cx="44640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2239920"/>
              <a:ext cx="1440" cy="87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99280" y="2239920"/>
              <a:ext cx="1800" cy="87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3119400"/>
              <a:ext cx="1440" cy="87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9280" y="3119400"/>
              <a:ext cx="1800" cy="87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3997440"/>
              <a:ext cx="1440" cy="12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99280" y="3997440"/>
              <a:ext cx="1800" cy="12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5208480"/>
              <a:ext cx="1440" cy="87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99280" y="5208480"/>
              <a:ext cx="1800" cy="87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33840" y="6087960"/>
              <a:ext cx="44640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derique</dc:creator>
  <dc:description/>
  <dc:language>en-US</dc:language>
  <cp:lastModifiedBy>Milena Nedeva</cp:lastModifiedBy>
  <cp:revision>0</cp:revision>
  <dc:subject/>
  <dc:title>Local Integrity Systems</dc:title>
</cp:coreProperties>
</file>