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25640" y="705960"/>
            <a:ext cx="4952880" cy="34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640" y="441432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1"/>
          </p:nvPr>
        </p:nvSpPr>
        <p:spPr>
          <a:xfrm>
            <a:off x="396720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2"/>
          </p:nvPr>
        </p:nvSpPr>
        <p:spPr>
          <a:xfrm>
            <a:off x="0" y="8829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3"/>
          </p:nvPr>
        </p:nvSpPr>
        <p:spPr>
          <a:xfrm>
            <a:off x="3967200" y="8829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35636-ED59-44F0-B36A-7DBDD2340F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ECF-6643-4BB0-B879-04DE7430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AF9-86D1-4BA9-B8EA-784F129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642-8212-42C8-977F-34159C58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3DB-15FD-4CC5-8708-6F1C0146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E9264-149B-484F-83F9-FD3353E1B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2A7B7-1F3C-4262-B2E7-9CC7124FB0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D96B0-092E-4EE1-B998-4920FBDBB9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96247-28A9-49EA-B244-DF9E761F5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5AB4C-D68A-403A-BEF8-07D0D42E2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02ABA-1D2D-4865-9422-9C79E3314A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D09AF-4F8C-4511-B13C-66AA0891B4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B31-BF02-4A73-8913-DCD39D3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7E65-982B-404A-896A-CEEEB4188A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53A1D-727D-4687-BD9B-B76A49B47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0E632-1FD3-4F1F-8D10-CD2FE786F4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E291A-20EE-46E1-A177-46BCC2B73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A25F1-5113-4635-980D-9AC6C4364D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235D5F-D41C-4602-94B7-F525F12E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44F0A-9F60-48BB-8FB6-753A1D48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DC57EA-3172-4E6A-A44E-075CD705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FB52F-7828-4509-9860-B89FFF7D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66210-3812-4527-AD76-7139E1F4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A81-4E1A-4A50-9372-F4F17DAD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529A8-DB34-4578-ABFA-D2A4FBFE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5F42D-7425-468E-8EA1-D8B994B4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C4898-E25C-4B02-98DF-74B7649A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B85A1-F60D-4622-B02A-D9ABEA8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41565-72ED-4663-BB02-C575AB2F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7AB24-2781-4070-9EE8-B362553F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5B4DDF-4CF8-4914-A259-E4B72A92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017EB-CD4F-4723-8028-F3F301C0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AA896-4FA4-417B-B7E2-8E918D66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684AE-0150-4BBF-9D2A-223B0F3E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C1B-9EEE-4178-9066-FD85F85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4CC07-AC1C-4DEC-93F3-93BBA6CE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E0C49-2ED2-4449-9A38-D3BD6288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D0359-DE03-4126-A55D-7D426946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B4C26-3E57-4C2A-B523-404F820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87830-FC0A-44B4-80BC-A3B5DCAC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90E9C-A0A6-4F07-AE19-D263C1C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7589B-B634-4B3D-9182-3B65616E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67F70-2E37-4EEA-9B8D-ADB542F2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3C7E5-8644-4071-A994-41B67F0E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AB7-FDF0-4AB3-9F3E-4D8E02E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5C3-E9C0-45B7-9791-7B851F1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3CD-EF13-47EC-8E6C-86432B2A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67A-1FFE-4D36-B745-169DA873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E87-E248-44A8-A36E-65CF511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D0DF6-90B2-441F-B6AB-C75C120106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4760"/>
            <a:chOff x="0" y="0"/>
            <a:chExt cx="9142560" cy="68547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39320" cy="51944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2800" cy="5146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48240"/>
              <a:ext cx="640872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8720" y="5676840"/>
              <a:ext cx="2730600" cy="10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3360"/>
              <a:ext cx="7593120" cy="522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3120" y="5875200"/>
              <a:ext cx="1546200" cy="1605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3440" y="6054840"/>
              <a:ext cx="339408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2520"/>
              <a:ext cx="5743440" cy="552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66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0560" y="614052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3360" y="5000760"/>
              <a:ext cx="115596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3360" cy="26510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3360" y="4838760"/>
              <a:ext cx="1155960" cy="504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2600"/>
              <a:ext cx="7983360" cy="347040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3360" cy="4324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6320" y="4287960"/>
              <a:ext cx="513000" cy="47448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3280" y="4106880"/>
              <a:ext cx="446040" cy="5317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4120" y="0"/>
              <a:ext cx="4950000" cy="4249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29800" y="402120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840" y="0"/>
              <a:ext cx="3990960" cy="4021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5720" y="0"/>
              <a:ext cx="3489120" cy="393552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5760" y="3925800"/>
              <a:ext cx="133560" cy="15264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3080" y="1349280"/>
              <a:ext cx="24624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576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8520" y="0"/>
              <a:ext cx="54108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3920" y="1036800"/>
              <a:ext cx="9540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29600" cy="29574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2840" y="5527800"/>
              <a:ext cx="9720" cy="936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4600"/>
              <a:ext cx="91296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1800"/>
              <a:ext cx="9129600" cy="657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4000" cy="5041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0400" y="0"/>
              <a:ext cx="3862440" cy="4148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69040" y="0"/>
              <a:ext cx="2863800" cy="3909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2280" y="0"/>
              <a:ext cx="1960560" cy="3290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0200" y="0"/>
              <a:ext cx="1682640" cy="30718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0" y="0"/>
              <a:ext cx="1227240" cy="235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37520" cy="2944800"/>
              <a:chOff x="0" y="2590920"/>
              <a:chExt cx="9137520" cy="2944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4440" cy="20826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6280" y="4433760"/>
                <a:ext cx="3351240" cy="110196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F06639-53DD-40F6-8372-EB431F064D95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21DA1B-0EAA-4387-9AF6-C34F54B79C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60720" y="6113520"/>
            <a:ext cx="30607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02655D-A6E0-4904-A08C-551E33029D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9640" y="232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 algn="ctr">
              <a:lnSpc>
                <a:spcPct val="5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РАЖДАНС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50000"/>
              </a:lnSpc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ИНФОРМАЦИОНН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50000"/>
              </a:lnSpc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ЦЕНТРО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50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ГИ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-360360"/>
            <a:ext cx="82281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Допълнител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Организация на дейности с участие на гражданите вътре в общността (публични дискусии, проучвания/инспекции, съвет на старейшините, местни срещ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Сътрудничество с граждански организации посредством конкретни дейности (граждански съвещателни комитети, работни груп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одпомагане на граждански сд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артньорство с други институции и организации във връзка със събития на общност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81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ГИЦ – Адаптиране на услу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Допълнителните услуги дават измерени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ГЪВКАВОСТ (готовността да предложиш нов тип информация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Сила на АДАПТИРАНЕ (бързината и ефективността, с които се предава нов тип информация) на местното управление към нуждите на гражданите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-41580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ГИЦ  - Видове информация</a:t>
            </a: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Градустройство - кадастъ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елскостопански регистъ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Земеделски регистъ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Местни акт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Инвести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вободно предприема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Обществени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Регистър на населени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оциално подпомаг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Асоциации на собствениц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Данъци и так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Програми с държавни/международни дар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ъбития на общност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Информация от обществен интер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Отзовава се на граждани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3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одкрепя гражданите и им помаг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4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Опростява бюрокрацият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5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овишава ефективността на държавните служител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6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Допринася за по-приветливо  местно самоуправлени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Благодаря В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clickEffect" fill="hold">
          <p:childTnLst>
            <p:seq>
              <p:cTn id="219" dur="indefinite" nodeType="mainSeq">
                <p:childTnLst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предлага информация и помощ на обществот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82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Стандартни услу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Допълнителни услу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Адаптиране на услуги към нуждите на граждани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Видове информ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447920"/>
            <a:ext cx="8229600" cy="64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8320" indent="-59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аложени от действащото законодател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тговарят на нуждите на граждан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тговарят на нуждата на местната администрация за ефикасност на работния проц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редоставят свободен достъп до обществена информ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сигуряват прозрачността на вземането на решения на местно ни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одкрепят правото на гражданите да вземат инициатива</a:t>
            </a: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clickEffect" fill="hold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Подкрепят въвеждането в действие на правото на гражданите да подават заявления/жал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Предоставят помощ на гражданите за разрешаване на въпроси, които са отговорност на общината и местния общински съ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160" y="-54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8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Информационни материали за гражданите за по-лесно справяне с процедурите на бюрокра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8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Организиране на програмата на заседанията на общинските ръководители (кмет, заместник кмет, секретар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8000"/>
              </a:lnSpc>
              <a:spcBef>
                <a:spcPts val="799"/>
              </a:spcBef>
              <a:buSzPct val="123461"/>
              <a:buBlip>
                <a:blip r:embed="rId4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Регистрация (регистрация и издаване на документи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-14436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29528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8320" indent="-598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ират гражданите относно общински услу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омагат на гражданите да разрешават въпроси, които са отговорност на общината и местния общински съ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Регистрация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регистриране, проследяване и издаване на документи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казват помощ на гражданите за свободен достъп до обществена информац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000" autoRev="1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000" autoRev="1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1000" autoRev="1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000" autoRev="1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10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0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алагат прозрачност при вземането на решения на местно н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рилагане на зак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4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рганизира програмата за заседания на Общинското ръководство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кмет, заместник кмет, секретар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5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ационните материали за гражданите и организиране на публични ка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Допълнителни услу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0512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еобходимост от съответната услуга: определяне на въпроса, който тя реш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чакван брой граждани, които ще бъдат обслуж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Резултат за общността, общината и други институ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Допълнителни изисквания на екипа на Г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еобходими ресурси за осигуряване на услугата (персонал, оборудване, материали)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0"/>
            <a:ext cx="82296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ГИЦ  - Допълнителни услу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0666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8320" indent="-598320">
              <a:spcBef>
                <a:spcPts val="700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ация за услуги, предлагани от други институции, организации, служ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редлагане на помощ за разрешаване на въпроси, които са отговорност на други институции или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В помощ и подкрепа на гражданското право за поемане на инициа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ация и ръководство за услуги, предлагани от гражданското общество (неправителствени организации)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I</dc:creator>
  <dc:description/>
  <dc:language>en-US</dc:language>
  <cp:lastModifiedBy>Milena Nedeva</cp:lastModifiedBy>
  <cp:revision>0</cp:revision>
  <dc:subject/>
  <dc:title>Slide 1</dc:title>
</cp:coreProperties>
</file>