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025640" y="705960"/>
            <a:ext cx="4952880" cy="34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640" y="441432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1"/>
          </p:nvPr>
        </p:nvSpPr>
        <p:spPr>
          <a:xfrm>
            <a:off x="396720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2"/>
          </p:nvPr>
        </p:nvSpPr>
        <p:spPr>
          <a:xfrm>
            <a:off x="0" y="8829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3"/>
          </p:nvPr>
        </p:nvSpPr>
        <p:spPr>
          <a:xfrm>
            <a:off x="3967200" y="8829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797F-B147-41B6-A806-F80D830452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-11798280" y="-11798280"/>
            <a:ext cx="11798280" cy="1250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82600" y="706320"/>
            <a:ext cx="464364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556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75A4-2977-4E6B-BDB2-C6CAF343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ACE2-0305-47C1-945B-5214475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565-9807-4CF5-BCFC-F1641FB9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1764-BD90-4175-AA49-357C1D7F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BFABB-F251-44B4-981F-2E5459B308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5EF98-FA2B-4465-9D09-943CDF3967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1235C-DDF7-4E89-B79B-85E5533435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CF3F-9156-4C3A-86E9-E1A7ECBD2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8A7D8-DDCC-464E-B9C5-733CB9A61A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9C85-7930-4E7D-A52C-AF64801C41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231D7-10B1-46B1-AC16-33B937A807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7BB-1159-4251-B2DB-C7697136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1771D-0CAD-46BC-97FC-78F26871A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06E84-4445-4543-B5BD-9DB2D13B35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30836-FFDC-4649-B0AC-2A9E69F69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97B1-8F1F-4104-8A56-07F0E6FE6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1A204-F94B-4710-A0DC-D64A0F5D45F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F94AB-9E7C-435F-A970-E73D5335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B358AF-E7D3-4D15-80CD-8FFE7A68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3F2974-B1B8-43FE-8DDC-47D3707C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63BBD8-412C-4313-B448-D42C323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1DF3D6-9814-4B2A-BFA2-D625253B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BDE-DDF7-4CB0-A939-E4381ABD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B78839-EC27-4B08-8D2B-8821A76C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A3CD3-8AF6-4045-B931-F5AB8D6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298641-0AA8-495E-AF4B-37D8A00B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70287F-81BE-4DBD-86E2-258C63F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4DC4A-C528-4096-80D7-144D2035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397AD-993A-4AF0-B949-3B0EBBF6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FA418-63ED-4583-9F50-A3770C2E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CECC26-DE5C-46E4-AA69-43E7ED6E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6DDF75-9E33-4411-BBB0-6096E2E3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1E746E-9510-410F-8079-CBE5D4F1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BEB-515B-4CF5-86CE-ACFEBA13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697364-F9F2-4C74-87E8-B87D1DE2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F153F-1414-42BE-8203-EC80D9BC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C9A8E-A8E9-4A07-8105-652DC08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963FC-1745-4C58-B262-D480E078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4D5F0-5886-41F5-8098-BF865DC8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B9256-7C3A-4710-96D4-CB387A90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C5B6D-D01A-48F2-8155-1089D5A2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46E7F-364D-4C00-8E79-4F9531F8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3DBF6D-890C-416A-B819-CFEB4357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644-C17C-49CB-B409-136FA6A9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98640"/>
            <a:ext cx="8226360" cy="62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6D3-BE35-4922-979D-2172649C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AF6-6D8D-4B37-94F1-779ECE94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C36-8C68-47E6-8379-BED1EDA6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FF8-07F5-465F-88D3-327145F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EA57D-DB28-4C68-8121-55BA85D17D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2560" cy="6854760"/>
            <a:chOff x="0" y="0"/>
            <a:chExt cx="9142560" cy="6854760"/>
          </a:xfrm>
        </p:grpSpPr>
        <p:sp>
          <p:nvSpPr>
            <p:cNvPr id="42" name=""/>
            <p:cNvSpPr/>
            <p:nvPr/>
          </p:nvSpPr>
          <p:spPr>
            <a:xfrm>
              <a:off x="0" y="19080"/>
              <a:ext cx="9139320" cy="519444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6520" y="0"/>
              <a:ext cx="8902800" cy="5146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5448240"/>
              <a:ext cx="6408720" cy="30312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8720" y="5676840"/>
              <a:ext cx="2730600" cy="103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5913360"/>
              <a:ext cx="7593120" cy="522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93120" y="5875200"/>
              <a:ext cx="1546200" cy="16056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43440" y="6054840"/>
              <a:ext cx="339408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302520"/>
              <a:ext cx="5743440" cy="5522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28920" y="64166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10560" y="614052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83360" y="5000760"/>
              <a:ext cx="115596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2359080"/>
              <a:ext cx="7983360" cy="26510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83360" y="4838760"/>
              <a:ext cx="1155960" cy="5047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1452600"/>
              <a:ext cx="7983360" cy="347040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41760" y="0"/>
              <a:ext cx="5013360" cy="43243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626320" y="4287960"/>
              <a:ext cx="513000" cy="474480"/>
            </a:xfrm>
            <a:prstGeom prst="pie">
              <a:avLst/>
            </a:pr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93280" y="4106880"/>
              <a:ext cx="446040" cy="5317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94120" y="0"/>
              <a:ext cx="4950000" cy="4249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29800" y="402120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8840" y="0"/>
              <a:ext cx="3990960" cy="40212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35720" y="0"/>
              <a:ext cx="3489120" cy="393552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005760" y="3925800"/>
              <a:ext cx="133560" cy="152640"/>
            </a:xfrm>
            <a:prstGeom prst="pie">
              <a:avLst/>
            </a:pr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93080" y="1349280"/>
              <a:ext cx="24624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10576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88520" y="0"/>
              <a:ext cx="54108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43920" y="1036800"/>
              <a:ext cx="9540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" y="2541600"/>
              <a:ext cx="9129600" cy="29574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132840" y="5527800"/>
              <a:ext cx="9720" cy="936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" y="3414600"/>
              <a:ext cx="9129600" cy="21225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" y="5041800"/>
              <a:ext cx="9129600" cy="6573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58840" y="0"/>
              <a:ext cx="7074000" cy="504180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70400" y="0"/>
              <a:ext cx="3862440" cy="4148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69040" y="0"/>
              <a:ext cx="2863800" cy="3909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72280" y="0"/>
              <a:ext cx="1960560" cy="329076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50200" y="0"/>
              <a:ext cx="1682640" cy="30718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0" y="0"/>
              <a:ext cx="1227240" cy="235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2590920"/>
              <a:ext cx="9137520" cy="2944800"/>
              <a:chOff x="0" y="2590920"/>
              <a:chExt cx="9137520" cy="2944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2590920"/>
                <a:ext cx="5824440" cy="20826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786280" y="4433760"/>
                <a:ext cx="3351240" cy="1101960"/>
              </a:xfrm>
              <a:prstGeom prst="pie">
                <a:avLst/>
              </a:pr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49B409-27B0-427B-B72E-940D6173EC94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160" y="-98640"/>
            <a:ext cx="8226360" cy="13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spcAft>
                <a:spcPts val="1426"/>
              </a:spcAft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spcAft>
                <a:spcPts val="1426"/>
              </a:spcAft>
              <a:buSzPct val="100000"/>
              <a:buBlip>
                <a:blip r:embed="rId7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5"/>
          </p:nvPr>
        </p:nvSpPr>
        <p:spPr>
          <a:xfrm>
            <a:off x="45684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6"/>
          </p:nvPr>
        </p:nvSpPr>
        <p:spPr>
          <a:xfrm>
            <a:off x="3126960" y="6246720"/>
            <a:ext cx="289548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7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5F0555B-D689-470B-81AC-C20ED709C6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8"/>
          <a:stretch/>
        </p:blipFill>
        <p:spPr>
          <a:xfrm>
            <a:off x="3060720" y="6113520"/>
            <a:ext cx="3060720" cy="74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8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D3234B4-14D9-44E0-A489-1C3E664FF2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9640" y="23274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 algn="ctr">
              <a:lnSpc>
                <a:spcPct val="5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РАЖДАНСК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ИНФОРМАЦИОНН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750"/>
              </a:spcBef>
              <a:spcAft>
                <a:spcPts val="2750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ЦЕНТРО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50000"/>
              </a:lnSpc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ГИЦ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-360360"/>
            <a:ext cx="8228160" cy="16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рганизация на дейности с участие на гражданите вътре в общността (публични дискусии, проучвания/инспекции, съвет на старейшините, местни срещ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Сътрудничество с граждански организации посредством конкретни дейности (граждански съвещателни комитети, работни груп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дпомагане на граждански сд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90000"/>
              <a:buFont typeface="Comic Sans MS"/>
              <a:buAutoNum type="arabicPeriod"/>
              <a:tabLst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артньорство с други институции и организации във връзка със събития на общност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615960"/>
                <a:tab algn="l" pos="1065240"/>
                <a:tab algn="l" pos="1514520"/>
                <a:tab algn="l" pos="1963800"/>
                <a:tab algn="l" pos="2413080"/>
                <a:tab algn="l" pos="2862360"/>
                <a:tab algn="l" pos="3311640"/>
                <a:tab algn="l" pos="3760920"/>
                <a:tab algn="l" pos="4210200"/>
                <a:tab algn="l" pos="4659480"/>
                <a:tab algn="l" pos="5108400"/>
                <a:tab algn="l" pos="5557680"/>
                <a:tab algn="l" pos="6006960"/>
                <a:tab algn="l" pos="6456240"/>
                <a:tab algn="l" pos="6905520"/>
                <a:tab algn="l" pos="7354800"/>
                <a:tab algn="l" pos="7804080"/>
                <a:tab algn="l" pos="8253360"/>
                <a:tab algn="l" pos="8702640"/>
                <a:tab algn="l" pos="9151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816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omic Sans MS"/>
              </a:rPr>
              <a:t>ГИЦ – Адаптиране на услуги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Допълнителните услуги дават измерени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ГЪВКАВОСТ (готовността да предложиш нов тип информация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Сила на АДАПТИРАНЕ (бързината и ефективността, с които се предава нов тип информация) на местното управление към нуждите на гражданите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-41580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ГИЦ  - Видове информация</a:t>
            </a:r>
            <a:br>
              <a:rPr sz="36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Градустройство - када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елскостопански реги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Земеделски регистъ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Местни актив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Инвестир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вободно предприемач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Обществени услу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Регистър на населени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оциално подпомаг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Асоциации на собствениц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Бюдж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Данъци и так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Програми с държавни/международни дарит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Събития на общност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Информация от обществен интер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160020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тзовава се на гражданите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дкрепя гражданите и им помаг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Опростява бюрокрацият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Повишава ефективността на държавните служител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SzPct val="117264"/>
              <a:buBlip>
                <a:blip r:embed="rId6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Допринася за по-приветливо  местно самоуправление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Благодаря В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clickEffect" fill="hold">
          <p:childTnLst>
            <p:seq>
              <p:cTn id="219" dur="indefinite" nodeType="mainSeq">
                <p:childTnLst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предлага информация и помощ на обществот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8288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Стандартни услу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Допълнителни услу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Адаптиране на услуги към нуждите на граждани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Видове информ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447920"/>
            <a:ext cx="8229600" cy="64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аложени от действащото законодател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тговарят на нуждите на граждани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тговарят на нуждата на местната администрация за ефикасност на работния проц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едоставят свободен достъп до обществена информ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сигуряват прозрачността на вземането на решения на местно ни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buClr>
                <a:srgbClr val="86d1ec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одкрепят правото на гражданите да вземат инициатива</a:t>
            </a:r>
            <a:r>
              <a:rPr b="1" lang="en-GB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clickEffect" fill="hold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Подкрепят въвеждането в действие на правото на гражданите да подават заявления/жал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Предоставят помощ на гражданите за разрешаване на въпроси, които са отговорност на общината и местния общински съ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160" y="-54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Информационни материали за гражданите за по-лесно справяне с процедурите на бюрокраци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Организиране на програмата на заседанията на общинските ръководители (кмет, заместник кмет, секретар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8000"/>
              </a:lnSpc>
              <a:spcBef>
                <a:spcPts val="799"/>
              </a:spcBef>
              <a:buSzPct val="123461"/>
              <a:buBlip>
                <a:blip r:embed="rId4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Регистрация (регистрация и издаване на документи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-14436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295280"/>
            <a:ext cx="822960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ират гражданите относно общински услу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омагат на гражданите да разрешават въпроси, които са отговорност на общината и местния общински съв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Регистрация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регистриране, проследяване и издаване на документи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казват помощ на гражданите за свободен достъп до обществена информац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1000" autoRev="1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1000" autoRev="1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1000" autoRev="1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1000" autoRev="1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1000" autoRev="1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100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Стандартни услуги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2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алагат прозрачност при вземането на решения на местно ни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3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илагане на зак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4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рганизира програмата за заседания на Общинското ръководство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(кмет, заместник кмет, секретар)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SzPct val="123461"/>
              <a:buBlip>
                <a:blip r:embed="rId5"/>
              </a:buBlip>
              <a:tabLst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онните материали за гражданите и организиране на публични ка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7760"/>
                <a:tab algn="l" pos="797040"/>
                <a:tab algn="l" pos="1246320"/>
                <a:tab algn="l" pos="1695600"/>
                <a:tab algn="l" pos="2144880"/>
                <a:tab algn="l" pos="2593800"/>
                <a:tab algn="l" pos="3043080"/>
                <a:tab algn="l" pos="3492360"/>
                <a:tab algn="l" pos="3941640"/>
                <a:tab algn="l" pos="4390920"/>
                <a:tab algn="l" pos="4840200"/>
                <a:tab algn="l" pos="5289480"/>
                <a:tab algn="l" pos="5738760"/>
                <a:tab algn="l" pos="6188040"/>
                <a:tab algn="l" pos="6637320"/>
                <a:tab algn="l" pos="7086600"/>
                <a:tab algn="l" pos="7535880"/>
                <a:tab algn="l" pos="7985160"/>
                <a:tab algn="l" pos="8434440"/>
                <a:tab algn="l" pos="8883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90512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еобходимост от съответната услуга: определяне на въпроса, който тя реш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Очакван брой граждани, които ще бъдат обслуж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Резултат за общността, общината и други институ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Допълнителни изисквания на екипа на Г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Необходими ресурси за осигуряване на услугата (персонал, оборудване, материали)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dur="indefinite" fill="hold">
                      <p:stCondLst>
                        <p:cond delay="indefinite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 fill="hold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3520" y="0"/>
            <a:ext cx="822960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ГИЦ  - Допълнителни услу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0666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98320" indent="-598320">
              <a:spcBef>
                <a:spcPts val="700"/>
              </a:spcBef>
              <a:tabLst>
                <a:tab algn="l" pos="0"/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я за услуги, предлагани от други институции, организации, служб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Предлагане на помощ за разрешаване на въпроси, които са отговорност на други институции или 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В помощ и подкрепа на гражданското право за поемане на инициати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8320" indent="-59832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598320"/>
                <a:tab algn="l" pos="1046160"/>
                <a:tab algn="l" pos="1495440"/>
                <a:tab algn="l" pos="1944720"/>
                <a:tab algn="l" pos="2394000"/>
                <a:tab algn="l" pos="2843280"/>
                <a:tab algn="l" pos="3292560"/>
                <a:tab algn="l" pos="3741840"/>
                <a:tab algn="l" pos="4191120"/>
                <a:tab algn="l" pos="4640400"/>
                <a:tab algn="l" pos="5089680"/>
                <a:tab algn="l" pos="5538960"/>
                <a:tab algn="l" pos="5987880"/>
                <a:tab algn="l" pos="6437160"/>
                <a:tab algn="l" pos="6886440"/>
                <a:tab algn="l" pos="7335720"/>
                <a:tab algn="l" pos="7785000"/>
                <a:tab algn="l" pos="8234280"/>
                <a:tab algn="l" pos="8683560"/>
                <a:tab algn="l" pos="9132840"/>
                <a:tab algn="l" pos="95821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Информация и ръководство за услуги, предлагани от гражданското общество (неправителствени организации)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dur="indefinite" fill="hold">
                      <p:stCondLst>
                        <p:cond delay="indefinite"/>
                      </p:stCondLst>
                      <p:childTnLst>
                        <p:par>
                          <p:cTn id="1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fill="hold">
                      <p:stCondLst>
                        <p:cond delay="indefinite"/>
                      </p:stCondLst>
                      <p:childTnLst>
                        <p:par>
                          <p:cTn id="1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dur="indefinite" fill="hold">
                      <p:stCondLst>
                        <p:cond delay="indefinite"/>
                      </p:stCondLst>
                      <p:childTnLst>
                        <p:par>
                          <p:cTn id="1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fill="hold">
                      <p:stCondLst>
                        <p:cond delay="indefinite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dur="indefinite" fill="hold">
                      <p:stCondLst>
                        <p:cond delay="indefinite"/>
                      </p:stCondLst>
                      <p:childTnLst>
                        <p:par>
                          <p:cTn id="2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I</dc:creator>
  <dc:description/>
  <dc:language>en-US</dc:language>
  <cp:lastModifiedBy>Milena Nedeva</cp:lastModifiedBy>
  <cp:revision>0</cp:revision>
  <dc:subject/>
  <dc:title>Slide 1</dc:title>
</cp:coreProperties>
</file>