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32F1-49AC-40FE-BB64-7C8CC51FE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9440-FB93-46A2-8465-C3CBFF970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DE52-9564-4DF6-BDDC-53CD6FC27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E01D-93EB-49C0-A56D-36D4BCD0C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CCC8-89E7-4590-BC03-92BD5C9E6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CA1E-87EE-49DE-B0C8-E6EA83EF60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38EF-9291-4ABF-9F79-740DC262A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FCEA-70B5-47FE-98E2-F90F588C1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3BBE-76C5-4B45-9E14-A8DE2F8231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065C-8CBB-4729-BD07-B01C809D4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8B37-53F5-44EC-9EA7-0D169C93E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6371-652E-497C-85D7-4063FEFAE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30B5-2A26-4B61-8251-58AC7968E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3E94-E5A9-45B1-A614-118B378ED0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DF48-8676-4EEA-BC78-A1824513D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6248-AC02-4AF6-A1BB-DABEB9916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F7E7-ABCC-44A5-9FE7-6072C15C83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4D7F-5BC9-4BF7-9817-68A1A383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E9BF1-7921-4919-9C49-8F9D5B4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82821-1660-4FD9-95FF-8775099B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64DC8-E510-4C3F-B2D4-F743443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FBB8-2F15-4BFE-8067-3187447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B935-B5E0-464A-B456-D8DA0207ED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93F02-9C5E-4470-B5EB-2C6B179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0C3A0-447D-4A09-9E1A-E3F45C3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D62E-6A01-420A-AB88-37A9959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368B8-6748-4ED0-8B45-CE37175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FF1B-ED9F-415C-AB7A-FD7FD8D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E899-A4AA-46BF-9199-24DAE268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4DE14-13D5-4ADE-B347-E7729635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79CCE-D6C5-4E02-8EE6-DCB05208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0E580-60C3-4170-A86D-4986DCD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F2431-1157-4D12-B15D-0859ECCC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C533-D286-4AF9-ADC9-E888B7C76B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FC36E-DDE5-49E9-90DD-688C1D62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F13DF-AA6D-49BB-B492-4A869CA8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46357-7703-492C-98A2-40487DB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4F3EB-DFAA-4918-B762-BCBC32D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B17DE-76AE-474C-8612-6430CA3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B1E1-2881-4A0E-A3DC-B9C527A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9A70D-7419-4BE3-8349-8C96993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BF38C-8FFC-4D5D-AB5E-A7EEB252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3F329-A9E2-4653-A6BB-75435B6E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5B822-4A6E-4831-A368-A1A0911B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667C-37DA-47E1-A2EF-EAFA5FF8BE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F81EA-8121-4C01-9F0F-10C3E7C5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47CC8-6541-42EA-9D28-0F59B052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A750C-FEEB-458E-8B31-B7C52700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E3AB4-EB6C-411D-86FA-A3AD635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87D4D-C938-4C57-9152-9F1033FF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0B01C-EFB3-459F-B452-4A11CDD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91DD7-FBB0-4DD1-92DD-AF24B94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72166-9B05-4002-A438-BE7B09F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3F115-86CE-4738-86E6-DB182BE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9D17A-3CBB-45BE-89E6-1093045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99D7-E850-4565-B130-31EB8B201C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B3823-5FE9-4EC1-AEE3-E436956D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05A23-DD35-4C26-B1D1-31F7CFF0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9D1E6-B736-4ACC-9402-7783FDA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69093-559B-44B6-9745-B960B15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F0CA3-E177-412E-8859-4E04BF7A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5530A-1408-4515-8E4F-A042D89D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3D515-C7AC-4934-994B-CFD5349E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473E6-55D0-4F2F-91F0-6FF0E40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29D37-F1AC-49EB-AD3C-699B770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E3EB6-F85E-4E7E-8FDF-0D6D217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C766-E1A8-4D68-A4CC-9E7D4EA3D5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83C20-D0FC-4778-A200-89E91F2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7366C-325E-49AB-BC91-A50A5CF5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79578-70C6-438A-8AD6-6FEC4BBE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5F50F-792A-4774-A692-F3A523B8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C3A1D-DE45-4580-9408-AF398D6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AA3E6-626C-465A-A2EF-D09FD331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62AED-98C9-4F35-95C7-4E7DF8E1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20C71-783B-417C-86AE-B7A62FF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BE0FA-8FF7-4CF9-9DAE-92F4A3E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ADAC9-C6A3-4442-AAAB-6009854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109F-071B-4445-BA22-CB848C94C7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6A81F-F4BB-4E95-9F4A-ADF0A8F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B43A3-041C-48E9-A5E0-3D78ED9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247C4-BBA5-4BFC-84ED-FACCDF19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848AE-EEB8-4AE0-9745-560765E6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552F9-01D6-40AC-AF2C-D40305A8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FEDC-C934-4868-97BC-04011DFC1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58240" cy="5052960"/>
            <a:chOff x="3800520" y="1789200"/>
            <a:chExt cx="5358240" cy="5052960"/>
          </a:xfrm>
        </p:grpSpPr>
        <p:sp>
          <p:nvSpPr>
            <p:cNvPr id="1" name=""/>
            <p:cNvSpPr/>
            <p:nvPr/>
          </p:nvSpPr>
          <p:spPr>
            <a:xfrm>
              <a:off x="671832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776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68840" y="2374920"/>
              <a:ext cx="9720" cy="3289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7480" y="5567400"/>
              <a:ext cx="1047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26400" y="2436480"/>
              <a:ext cx="9720" cy="3170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6440" y="242568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59040" y="288252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87320" y="2898360"/>
              <a:ext cx="9720" cy="3362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0760" y="2968200"/>
              <a:ext cx="9720" cy="302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4440" y="4794120"/>
              <a:ext cx="99036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64320" y="5699160"/>
              <a:ext cx="15829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02480" y="5784840"/>
              <a:ext cx="1544760" cy="3888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31280" y="5699160"/>
              <a:ext cx="151596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78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78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840" y="280512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9400" y="2141640"/>
              <a:ext cx="133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9004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23440" y="5594400"/>
              <a:ext cx="1047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1240" y="1789200"/>
              <a:ext cx="413676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78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2280" y="614520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520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1200"/>
              <a:ext cx="219420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4720"/>
              <a:ext cx="23875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6120"/>
              <a:ext cx="226548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5040" y="6012000"/>
              <a:ext cx="14292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3720" y="5718240"/>
              <a:ext cx="114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0920" y="2813040"/>
              <a:ext cx="274680" cy="402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104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024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8920" y="2427120"/>
              <a:ext cx="399960" cy="25005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148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"/>
          <p:cNvSpPr/>
          <p:nvPr/>
        </p:nvSpPr>
        <p:spPr>
          <a:xfrm>
            <a:off x="457200" y="6275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"/>
          <p:cNvSpPr/>
          <p:nvPr/>
        </p:nvSpPr>
        <p:spPr>
          <a:xfrm>
            <a:off x="3124080" y="6275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660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C5BCA-180B-4955-A86A-D7A00077F2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219640" y="5940360"/>
            <a:ext cx="3575160" cy="88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329080" y="1430280"/>
            <a:ext cx="1918800" cy="1809720"/>
            <a:chOff x="5329080" y="1430280"/>
            <a:chExt cx="1918800" cy="1809720"/>
          </a:xfrm>
        </p:grpSpPr>
        <p:sp>
          <p:nvSpPr>
            <p:cNvPr id="78" name=""/>
            <p:cNvSpPr/>
            <p:nvPr/>
          </p:nvSpPr>
          <p:spPr>
            <a:xfrm>
              <a:off x="6375240" y="1565280"/>
              <a:ext cx="113040" cy="58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13400" y="1463760"/>
              <a:ext cx="27000" cy="27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20000">
              <a:off x="6930720" y="1642680"/>
              <a:ext cx="3240" cy="1177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0640" y="2782800"/>
              <a:ext cx="381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20000">
              <a:off x="7094160" y="1662120"/>
              <a:ext cx="3240" cy="1135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640000">
              <a:off x="7175520" y="1657080"/>
              <a:ext cx="3240" cy="500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460000">
              <a:off x="5924520" y="1822320"/>
              <a:ext cx="3240" cy="115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140000">
              <a:off x="5541480" y="1828800"/>
              <a:ext cx="3240" cy="12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40000">
              <a:off x="5697360" y="1855440"/>
              <a:ext cx="3240" cy="1081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2506680"/>
              <a:ext cx="35388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76920" y="2830680"/>
              <a:ext cx="567000" cy="71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91320" y="2860560"/>
              <a:ext cx="554040" cy="1396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2480" y="2830680"/>
              <a:ext cx="542880" cy="50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08520" y="1665360"/>
              <a:ext cx="5904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08520" y="1751040"/>
              <a:ext cx="507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8520" y="179388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80120" y="1474920"/>
              <a:ext cx="5904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3360" y="1557360"/>
              <a:ext cx="4752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0120" y="160344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6360" y="2793960"/>
              <a:ext cx="381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4760" y="1430280"/>
              <a:ext cx="1481040" cy="252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7240" y="2933640"/>
              <a:ext cx="4752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18200" y="299088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2320" y="2990880"/>
              <a:ext cx="41400" cy="50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57880" y="2971800"/>
              <a:ext cx="785880" cy="2206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9080" y="2968560"/>
              <a:ext cx="855720" cy="163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56080" y="2982960"/>
              <a:ext cx="811440" cy="12528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7680" y="2943360"/>
              <a:ext cx="507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53120" y="2836800"/>
              <a:ext cx="4140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8480" y="1797120"/>
              <a:ext cx="98640" cy="1442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7280" y="1668600"/>
              <a:ext cx="42840" cy="136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9120" y="1781280"/>
              <a:ext cx="115920" cy="29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8440" y="1658880"/>
              <a:ext cx="142560" cy="895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40320" y="1596960"/>
              <a:ext cx="181080" cy="795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275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75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6553080" y="627660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9271A9-769D-44A5-9A80-62327E0F1D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720A59-E55D-4836-ABC4-3C93A87EBE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6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962B64-4E01-42AE-A922-006CABD90E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9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0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1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5636ED-E4A5-459E-97BB-6872EB114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2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3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4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5794B1-9CA7-49EF-91E6-45453C34D5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6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5C2531-F827-4B27-901E-061D93FDED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944640"/>
            <a:ext cx="77724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"/>
              </a:rPr>
              <a:t>Процес за</a:t>
            </a:r>
            <a:br>
              <a:rPr sz="5400"/>
            </a:br>
            <a:r>
              <a:rPr b="0" lang="en-GB" sz="5400" spc="-1" strike="noStrike">
                <a:solidFill>
                  <a:srgbClr val="ffff00"/>
                </a:solidFill>
                <a:latin typeface="Arial"/>
              </a:rPr>
              <a:t>прозрачност на 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822636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609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8f854"/>
                </a:solidFill>
                <a:latin typeface="Arial"/>
              </a:rPr>
              <a:t>Из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600200"/>
            <a:ext cx="82296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Първото прилагане на процеса на практика отнема време и усилия за орган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Местните администрации разработват стандартни процедури, за да приложат на практика истинска бюджетна прозрач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Местните администрации печелят доверие и добри позиции/уважение посредством общуването си с граждан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Гражданите разбират с лекота процеса и допринасят активно в н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НПО са заинтересовани от гладкото протичане на процеса и могат да предоставят помощ в качеството им на неутрална ст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Процесът се превръща в обичайна прак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Бюджетен календ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2952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1.  Общ преглед или публично обсъждане върху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приоритетни капиталовложения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 (април/юл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Определяне на приоритетните капиталовложения от гледна точка на граждани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2.  Фокус групи за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разпределение на обществените ресурси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(август/септемвр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Установяване на критерии за разпределяне на ресурсите по специфични прогр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Определяне на приоритетите на гражданите и на групите по интерес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3. Разработени материали и проведени тренинги (октомвр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Кратко представяне на бюджета, промоционални плакати, презентации Пауър Пойнт (Инструментариум за прозрачност на бюджета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Тренинг за администратори  и НПО за процеса на провеждане на обществени обсъжда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4.  Обществени обсъждания  върху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проектобюджета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за идната год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Проведено представяне на бюдж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Разпространение на кратко представяне на бюдж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Въпросник на последващ етап, засягащ съкращения в бюджета и/или приоритети при разпределението 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5.  Обществено обсъждане на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одобрения бюджет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(януари/февруари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Акцентът е върху подобряване на бюджета въз основа на предложения от граждани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7200" y="255600"/>
            <a:ext cx="8229600" cy="118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Кампания за</a:t>
            </a:r>
            <a:br>
              <a:rPr sz="3600"/>
            </a:b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прозрачност на бюдже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752480"/>
            <a:ext cx="8229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Тренинг на НПО и представители на местното управление върху бюджетния процес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Инструментариум за прозрачност на бюдже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Кратко представяне на бюджета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Плакати и рекламиране на събитиет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Осигуряване присъствието на обществени личности, НПО и други</a:t>
            </a:r>
            <a:r>
              <a:rPr b="0" lang="en-GB" sz="3000" spc="-1" strike="noStrike">
                <a:solidFill>
                  <a:srgbClr val="f8f854"/>
                </a:solidFill>
                <a:latin typeface="Tahoma"/>
              </a:rPr>
              <a:t>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8f854"/>
                </a:solidFill>
                <a:latin typeface="Tahoma"/>
              </a:rPr>
              <a:t>Мобилизиране на гражданите за участ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55600"/>
            <a:ext cx="8229600" cy="118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Стъпки за обществени обсъждания за бюдже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600200"/>
            <a:ext cx="822960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пределете годишния приход и раз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бяснете ограниченията за разходи до определен размер по преценка на съответния отговорен служите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бяснете ясните цели за разпределените сре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Кратко и разбираемо представяне на бюдж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Вслушайте се в интересите/проблемите и приоритетите на граждан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Дайте възможност на гражданите непрекъснато да се включват със свой при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тбележете приоритетите на гражданите в бюдж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Предоставете обяснение на крайния одобрен бюдж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038480"/>
            <a:ext cx="746784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Гражданите изразяват своите приорите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Допълнително изясняван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Оповестяване на събитие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Проследяване пътя на пар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Проследяване на цифри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birnbaum</dc:creator>
  <dc:description/>
  <dc:language>en-US</dc:language>
  <cp:lastModifiedBy>Milena Nedeva</cp:lastModifiedBy>
  <cp:revision>0</cp:revision>
  <dc:subject/>
  <dc:title>GRASP Public Hearings on the Budget</dc:title>
</cp:coreProperties>
</file>