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8920" cy="124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5777-238C-4B0F-A4FA-7D4B9C96B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2A18-1278-4043-B215-0D202A7EB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25F91-69CA-4D1B-83A9-9F007E4B0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11B9-8367-47AD-A63F-E6BE9B106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DEA50-6993-4388-8AD2-513343F3EF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96D1-50BD-49E2-98C9-9427EC526D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3131-AF34-4321-A7B5-2810E23BEC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99AC4-241B-46A8-B9ED-78E1DCE95D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A0D9B-67EF-4C18-BE3B-D2E071F1FF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2232-662E-41E8-8812-15F9A3A0C7F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A0CC-B2ED-4A1B-9F5D-AD6E702FE5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1E734-E433-42EC-AD1C-AAAEE6B31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C8E7-A080-4A3D-A3F1-467B5760C0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9B948-CABD-4334-B4B9-02CAB7DD87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A4CB-8BA8-48D2-8261-B44E082159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1A9D3-F4D0-413F-A7A2-6E8A8601B9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7E082-2AE2-40D4-B4E8-7DD304744C6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6D42E-1FAE-4522-978A-2677AB36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D2C8D-E4DA-4370-9796-16C9DED2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4D0E7-5328-49E4-9CBD-259C15E7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EDFB4-BC68-4235-8689-F8E779CE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79F4A-5C1C-4224-BD2A-A206A98F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5F16-6FCF-4140-8EEB-CBD44B9A87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F3CC8-0567-4D1F-9E9C-0A0793E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6F6B4-CDCD-4412-8ED1-EE42668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4B179-C4AF-444A-840D-D066D3A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FD89A-6F5A-4222-B19F-C64A8114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93548-8DD4-4B54-8857-8772BB5A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3C6AE-AAD4-4BE9-B15A-9FC7477A0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8C466-A7F3-4B4F-BB69-390C7097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42BCB-2DE7-4503-A793-7A59DD59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2D9F3-13AF-4537-A7C2-16B45D2B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975854-3D96-4674-B6A9-1492F445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A61F-3BB5-4BAA-9444-73EE2BF271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DDDEF4-CE4A-4ECC-80CE-A549A773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3FF11-3D0B-41E7-948C-21A4DC7B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03B85-18F7-45DC-8F1D-9A0A663A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3FA4F-9FE5-4FB7-B07E-23CD4EA4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EBD7DF-5D9E-4E88-9D21-9C65AC89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76C9D-BA32-4908-8EE3-BE48249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835CE-7B3C-4A43-BB3D-4C93082A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AA6B8-4ADC-481D-A43F-B8C7E69C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E85B1-2380-4A31-84C1-9B2990C8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FA85D-6627-40BB-9131-DFF68A4F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A0FB-760A-4BF1-9B6A-607C12C091D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379B5C-A3C6-4EA9-BB5B-4432EC4C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8F712-5DBC-45EF-99A9-3E89ADB7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5BEEF-2226-451A-8B9D-4624FC4D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91BBF9-C6B7-42DE-9342-B5685D68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0BC82-8D09-4E0F-854A-389B6BD5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A27731-D916-4C0E-80D6-C57F148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0D15A-ACB2-4D8E-B864-E3D3D4D4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08034-B6DC-4817-B686-CB9E8294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43CB7-25F3-42E6-83DB-CAE64191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B99035-AC86-4616-BC1F-23F2C2EA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97A9-C1E7-4623-92A4-7BB9E3C358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B48A1B-09F8-4D9E-A38B-DA68F971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24AF06-54CA-4317-8EF7-1FF72503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6CF13-B39D-4922-A022-AF6BC313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D6FBDD-9B84-4C2A-A5A1-27270238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55AC1F-203B-416C-A21F-490F518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98AC3-281C-4B8C-8296-FEFABA8C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E14098-AF92-4404-982F-161E7FDB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E32A15-BB4F-4E8D-9B1C-C6C24586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9A2CA0-D1F3-4890-9A63-C61F410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1CD52-FB1E-4A35-9588-0EE7CA91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2C39-B49D-4801-B2F3-1B614F4B8A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59D701-7BCE-4BBF-B49D-D54AE16D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1DED1F-4A57-4728-8692-FC66F1D2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8B729-DD77-4E49-AB2B-BEB862D0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AE8B5-D737-4367-AE60-38B5447A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DD30B-A03F-47C0-87AE-2F0E4603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5E174-5CD1-4AEB-8AEA-E3183CE6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7F2B3-F417-4C67-871B-D19E4434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D86DF-4A42-4E82-BFEA-EAF81F44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6840" y="131760"/>
            <a:ext cx="821844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06F8D-32E0-4BDC-A903-B38C2860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0DBD1F-C677-4E8D-A51A-0F99A19B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84C0-4BD9-47B9-B705-917A9141545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600CB-4996-45BB-B249-100B003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D82AA-DB25-477F-9252-15FCB7E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D4D04-42E9-47B6-813F-4A18A651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5CF38F-5984-43F2-A5A1-A89F1E86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897E62-AF5B-4B6A-9D8E-94812642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DBED-ABCB-416E-8E52-D50CDFA0E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58240" cy="5052960"/>
            <a:chOff x="3800520" y="1789200"/>
            <a:chExt cx="5358240" cy="5052960"/>
          </a:xfrm>
        </p:grpSpPr>
        <p:sp>
          <p:nvSpPr>
            <p:cNvPr id="1" name=""/>
            <p:cNvSpPr/>
            <p:nvPr/>
          </p:nvSpPr>
          <p:spPr>
            <a:xfrm>
              <a:off x="671832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776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 rot="1020000">
              <a:off x="8268840" y="2374920"/>
              <a:ext cx="9720" cy="32893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7480" y="5567400"/>
              <a:ext cx="1047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"/>
            <p:cNvSpPr/>
            <p:nvPr/>
          </p:nvSpPr>
          <p:spPr>
            <a:xfrm rot="120000">
              <a:off x="8726400" y="2436480"/>
              <a:ext cx="9720" cy="31701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40000">
              <a:off x="8956440" y="242568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60000">
              <a:off x="5459040" y="2882520"/>
              <a:ext cx="9360" cy="3225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40000">
              <a:off x="4387320" y="2898360"/>
              <a:ext cx="9720" cy="3362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"/>
            <p:cNvSpPr/>
            <p:nvPr/>
          </p:nvSpPr>
          <p:spPr>
            <a:xfrm rot="240000">
              <a:off x="4820760" y="2968200"/>
              <a:ext cx="9720" cy="30243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4440" y="4794120"/>
              <a:ext cx="99036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64320" y="5699160"/>
              <a:ext cx="15829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02480" y="5784840"/>
              <a:ext cx="1544760" cy="3888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31280" y="5699160"/>
              <a:ext cx="151596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78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78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7840" y="280512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004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9400" y="2141640"/>
              <a:ext cx="133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9004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23440" y="5594400"/>
              <a:ext cx="1047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91240" y="1789200"/>
              <a:ext cx="413676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78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002280" y="614520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520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1200"/>
              <a:ext cx="219420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4720"/>
              <a:ext cx="238752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6120"/>
              <a:ext cx="226548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5040" y="6012000"/>
              <a:ext cx="14292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13720" y="5718240"/>
              <a:ext cx="11448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30920" y="2813040"/>
              <a:ext cx="274680" cy="40291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1048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70248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8920" y="2427120"/>
              <a:ext cx="399960" cy="25005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2148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1880" indent="-2746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"/>
          <p:cNvSpPr/>
          <p:nvPr/>
        </p:nvSpPr>
        <p:spPr>
          <a:xfrm>
            <a:off x="457200" y="6275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"/>
          <p:cNvSpPr/>
          <p:nvPr/>
        </p:nvSpPr>
        <p:spPr>
          <a:xfrm>
            <a:off x="3124080" y="6275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6553080" y="627660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A47D0-3AE4-4AD1-8651-830E3FE9A5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5219640" y="5940360"/>
            <a:ext cx="3575160" cy="88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329080" y="1430280"/>
            <a:ext cx="1918800" cy="1809720"/>
            <a:chOff x="5329080" y="1430280"/>
            <a:chExt cx="1918800" cy="1809720"/>
          </a:xfrm>
        </p:grpSpPr>
        <p:sp>
          <p:nvSpPr>
            <p:cNvPr id="78" name=""/>
            <p:cNvSpPr/>
            <p:nvPr/>
          </p:nvSpPr>
          <p:spPr>
            <a:xfrm>
              <a:off x="6375240" y="1565280"/>
              <a:ext cx="113040" cy="586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13400" y="1463760"/>
              <a:ext cx="27000" cy="270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020000">
              <a:off x="6930720" y="1642680"/>
              <a:ext cx="3240" cy="1177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40640" y="2782800"/>
              <a:ext cx="3816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20000">
              <a:off x="7094160" y="1662120"/>
              <a:ext cx="3240" cy="1135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640000">
              <a:off x="7175520" y="1657080"/>
              <a:ext cx="3240" cy="5000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0460000">
              <a:off x="5924520" y="1822320"/>
              <a:ext cx="3240" cy="1155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140000">
              <a:off x="5541480" y="1828800"/>
              <a:ext cx="3240" cy="1204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40000">
              <a:off x="5697360" y="1855440"/>
              <a:ext cx="3240" cy="10810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48520" y="2506680"/>
              <a:ext cx="353880" cy="88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76920" y="2830680"/>
              <a:ext cx="567000" cy="71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691320" y="2860560"/>
              <a:ext cx="554040" cy="1396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2480" y="2830680"/>
              <a:ext cx="542880" cy="50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08520" y="1665360"/>
              <a:ext cx="59040" cy="88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708520" y="1751040"/>
              <a:ext cx="5076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08520" y="1793880"/>
              <a:ext cx="50760" cy="61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80120" y="1474920"/>
              <a:ext cx="59040" cy="88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083360" y="1557360"/>
              <a:ext cx="4752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80120" y="1603440"/>
              <a:ext cx="50760" cy="61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6360" y="2793960"/>
              <a:ext cx="3816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84760" y="1430280"/>
              <a:ext cx="1481040" cy="252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637240" y="2933640"/>
              <a:ext cx="4752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18200" y="2990880"/>
              <a:ext cx="50760" cy="61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32320" y="2990880"/>
              <a:ext cx="41400" cy="507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57880" y="2971800"/>
              <a:ext cx="785880" cy="22068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29080" y="2968560"/>
              <a:ext cx="855720" cy="16344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56080" y="2982960"/>
              <a:ext cx="811440" cy="12528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97680" y="2943360"/>
              <a:ext cx="50760" cy="54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53120" y="2836800"/>
              <a:ext cx="41400" cy="61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78480" y="1797120"/>
              <a:ext cx="98640" cy="1442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07280" y="1668600"/>
              <a:ext cx="42840" cy="1364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69120" y="1781280"/>
              <a:ext cx="115920" cy="29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8440" y="1658880"/>
              <a:ext cx="142560" cy="8953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40320" y="1596960"/>
              <a:ext cx="181080" cy="795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31760"/>
            <a:ext cx="8218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1880" indent="-2746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27552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75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2"/>
          </p:nvPr>
        </p:nvSpPr>
        <p:spPr>
          <a:xfrm>
            <a:off x="6553080" y="627660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6F2A962-DCBA-46C6-A617-82FE668A32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3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4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5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57D735-02B2-41B0-803D-35C76AADF4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6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7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8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3F1A28-2CDA-461A-A45B-F8D4BF5042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9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0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1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E0B485-346E-4123-84CF-1BC791B4B6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2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3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4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195924-84BE-4C82-A5AB-58483C787F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74240"/>
            <a:ext cx="822492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45684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6"/>
          </p:nvPr>
        </p:nvSpPr>
        <p:spPr>
          <a:xfrm>
            <a:off x="3126960" y="6246360"/>
            <a:ext cx="28940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7"/>
          </p:nvPr>
        </p:nvSpPr>
        <p:spPr>
          <a:xfrm>
            <a:off x="6555960" y="624636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DD6F002-C3EA-487C-9803-B7954CA1F0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85800" y="944640"/>
            <a:ext cx="77724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Arial"/>
              </a:rPr>
              <a:t>Процес за</a:t>
            </a:r>
            <a:br>
              <a:rPr sz="5400"/>
            </a:br>
            <a:r>
              <a:rPr b="0" lang="en-GB" sz="5400" spc="-1" strike="noStrike">
                <a:solidFill>
                  <a:srgbClr val="ffff00"/>
                </a:solidFill>
                <a:latin typeface="Arial"/>
              </a:rPr>
              <a:t>прозрачност на бюджет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8226360" cy="16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609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8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8f854"/>
                </a:solidFill>
                <a:latin typeface="Arial"/>
              </a:rPr>
              <a:t>Извод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600200"/>
            <a:ext cx="82296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Първото прилагане на процеса на практика отнема време и усилия за организ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Местните администрации разработват стандартни процедури, за да приложат на практика истинска бюджетна прозрач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Местните администрации печелят доверие и добри позиции/уважение посредством общуването си с граждан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Гражданите разбират с лекота процеса и допринасят активно в н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НПО са заинтересовани от гладкото протичане на процеса и могат да предоставят помощ в качеството им на неутрална ст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Процесът се превръща в обичайна прак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8f854"/>
                </a:solidFill>
                <a:latin typeface="Arial"/>
              </a:rPr>
              <a:t>Бюджетен календа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295280"/>
            <a:ext cx="883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1.  Общ преглед или публично обсъждане върху </a:t>
            </a:r>
            <a:r>
              <a:rPr b="1" lang="en-GB" sz="1400" spc="-1" strike="noStrike" u="sng">
                <a:solidFill>
                  <a:srgbClr val="ffff00"/>
                </a:solidFill>
                <a:uFillTx/>
                <a:latin typeface="Tahoma"/>
              </a:rPr>
              <a:t>приоритетни капиталовложения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 (април/юли)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Определяне на приоритетните капиталовложения от гледна точка на граждани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2.  Фокус групи за </a:t>
            </a:r>
            <a:r>
              <a:rPr b="1" lang="en-GB" sz="1400" spc="-1" strike="noStrike" u="sng">
                <a:solidFill>
                  <a:srgbClr val="ffff00"/>
                </a:solidFill>
                <a:uFillTx/>
                <a:latin typeface="Tahoma"/>
              </a:rPr>
              <a:t>разпределение на обществените ресурси 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(август/септември)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Установяване на критерии за разпределяне на ресурсите по специфични програ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Определяне на приоритетите на гражданите и на групите по интерес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3. Разработени материали и проведени тренинги (октомври)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  <a:ea typeface="msmincho"/>
              </a:rPr>
              <a:t>-  Кратко представяне на бюджета, промоционални плакати, презентации Пауър Пойнт (Инструментариум за прозрачност на бюджета)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  <a:ea typeface="msmincho"/>
              </a:rPr>
              <a:t>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  <a:ea typeface="msmincho"/>
              </a:rPr>
              <a:t>-  Тренинг за администратори  и НПО за процеса на провеждане на обществени обсъжда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4.  Обществени обсъждания  върху </a:t>
            </a:r>
            <a:r>
              <a:rPr b="1" lang="en-GB" sz="1400" spc="-1" strike="noStrike" u="sng">
                <a:solidFill>
                  <a:srgbClr val="ffff00"/>
                </a:solidFill>
                <a:uFillTx/>
                <a:latin typeface="Tahoma"/>
              </a:rPr>
              <a:t>проектобюджета 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за идната годи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Проведено представяне на бюдж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Разпространение на кратко представяне на бюджет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- Въпросник на последващ етап, засягащ съкращения в бюджета и/или приоритети при разпределението му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5.  Обществено обсъждане на </a:t>
            </a:r>
            <a:r>
              <a:rPr b="1" lang="en-GB" sz="1400" spc="-1" strike="noStrike" u="sng">
                <a:solidFill>
                  <a:srgbClr val="ffff00"/>
                </a:solidFill>
                <a:uFillTx/>
                <a:latin typeface="Tahoma"/>
              </a:rPr>
              <a:t>одобрения бюджет </a:t>
            </a:r>
            <a:r>
              <a:rPr b="1" lang="en-GB" sz="1400" spc="-1" strike="noStrike">
                <a:solidFill>
                  <a:srgbClr val="ffff00"/>
                </a:solidFill>
                <a:latin typeface="Tahoma"/>
              </a:rPr>
              <a:t>(януари/февруари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Tahoma"/>
                <a:ea typeface="msmincho"/>
              </a:rPr>
              <a:t>-  Акцентът е върху подобряване на бюджета въз основа на предложения от гражданит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57200" y="255600"/>
            <a:ext cx="8229600" cy="1189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8f854"/>
                </a:solidFill>
                <a:latin typeface="Arial"/>
              </a:rPr>
              <a:t>Кампания за</a:t>
            </a:r>
            <a:br>
              <a:rPr sz="3600"/>
            </a:br>
            <a:r>
              <a:rPr b="1" lang="en-GB" sz="3600" spc="-1" strike="noStrike">
                <a:solidFill>
                  <a:srgbClr val="f8f854"/>
                </a:solidFill>
                <a:latin typeface="Arial"/>
              </a:rPr>
              <a:t>прозрачност на бюдже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1752480"/>
            <a:ext cx="8229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Тренинг на НПО и представители на местното управление върху бюджетния процес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Инструментариум за прозрачност на бюджет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Кратко представяне на бюджета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Плакати и рекламиране на събитиет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Tahoma"/>
              </a:rPr>
              <a:t>Осигуряване присъствието на обществени личности, НПО и други</a:t>
            </a:r>
            <a:r>
              <a:rPr b="0" lang="en-GB" sz="3000" spc="-1" strike="noStrike">
                <a:solidFill>
                  <a:srgbClr val="f8f854"/>
                </a:solidFill>
                <a:latin typeface="Tahoma"/>
              </a:rPr>
              <a:t>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8f854"/>
                </a:solidFill>
                <a:latin typeface="Tahoma"/>
              </a:rPr>
              <a:t>Мобилизиране на гражданите за участи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57200" y="255600"/>
            <a:ext cx="8229600" cy="1189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Стъпки за обществени обсъждания за бюдже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600200"/>
            <a:ext cx="822960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Определете годишния приход и разх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Обяснете ограниченията за разходи до определен размер по преценка на съответния отговорен служите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Обяснете ясните цели за разпределените сред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Кратко и разбираемо представяне на бюдж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Вслушайте се в интересите/проблемите и приоритетите на граждан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Дайте възможност на гражданите непрекъснато да се включват със свой прин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Отбележете приоритетите на гражданите в бюдж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8f854"/>
                </a:solidFill>
                <a:latin typeface="Tahoma"/>
              </a:rPr>
              <a:t>Предоставете обяснение на крайния одобрен бюдж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4038480"/>
            <a:ext cx="7467840" cy="18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57200" y="133200"/>
            <a:ext cx="82296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Гражданите изразяват своите приоритет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Допълнително изясняван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Оповестяване на събитие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dbbd71"/>
                </a:solidFill>
                <a:latin typeface="Arial"/>
              </a:rPr>
              <a:t>Проследяване пътя на пар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dbbd71"/>
                </a:solidFill>
                <a:latin typeface="Arial"/>
              </a:rPr>
              <a:t>Проследяване на цифри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birnbaum</dc:creator>
  <dc:description/>
  <dc:language>en-US</dc:language>
  <cp:lastModifiedBy>Milena Nedeva</cp:lastModifiedBy>
  <cp:revision>0</cp:revision>
  <dc:subject/>
  <dc:title>GRASP Public Hearings on the Budget</dc:title>
</cp:coreProperties>
</file>