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8C2D7-9344-43AE-BAE2-A5BACA2883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6D12A-7FC5-40B0-A8F0-7DC77F4E01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E10CA-A519-4917-A1BB-B161EF3BB7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18AC0-B82B-4274-88DE-6E0C9E7AD0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5AC59-D139-4D9B-8AC0-280BDAB629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191C6-11AC-4948-B2C7-8E95718E45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01E89-6B37-4E3A-B85A-BEB1892FB4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50CC5-9576-475E-ABDE-2C534A5F97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7BFFF-BED5-429F-9A6E-97493ECBE5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63C2B-A2C9-43E1-A3BF-F80FFC3989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701-73B1-4F0F-B0F9-B0B1CDD9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495-3EB2-4C21-AC58-A857B03C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8CC-4F87-4624-9D4C-1780178B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E22-C6A8-40C8-9EC0-1B90D41E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1D0-D04B-4DAD-8D4C-238EDD74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004-28E2-4834-8C85-651540C6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234-E597-47C9-B5D8-D8E7188F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89D-1B4A-4041-B7F8-16B9EE0D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760" y="1920960"/>
            <a:ext cx="8216640" cy="80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FC4-A8FC-482C-A4EA-0DC38B63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755-2199-4FFA-A393-D397133B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7825-F229-4448-8B04-EA3F78C6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C24-51D7-43B6-AF5A-7BBC865F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1440"/>
            <a:ext cx="9142560" cy="6856560"/>
            <a:chOff x="1440" y="144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1440" y="1440"/>
              <a:ext cx="9141120" cy="165600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440" y="1440"/>
              <a:ext cx="9142560" cy="6856560"/>
              <a:chOff x="1440" y="144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3240" y="16527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440" y="6332400"/>
                <a:ext cx="9141120" cy="6696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440" y="5819760"/>
                <a:ext cx="914112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440" y="5342040"/>
                <a:ext cx="914112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440" y="4930920"/>
                <a:ext cx="9141120" cy="4896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440" y="4540320"/>
                <a:ext cx="914112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40" y="4199040"/>
                <a:ext cx="914112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440" y="3863880"/>
                <a:ext cx="914112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440" y="3587760"/>
                <a:ext cx="914112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440" y="3319560"/>
                <a:ext cx="914112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440" y="3062160"/>
                <a:ext cx="914112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440" y="2612880"/>
                <a:ext cx="914112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0" y="2824200"/>
                <a:ext cx="914112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440" y="2414520"/>
                <a:ext cx="914112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440" y="221472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440" y="203364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440" y="187020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440" y="39600"/>
                <a:ext cx="914112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440" y="297000"/>
                <a:ext cx="914112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40" y="755640"/>
                <a:ext cx="914112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440" y="536400"/>
                <a:ext cx="914112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440" y="954000"/>
                <a:ext cx="914112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440" y="1155600"/>
                <a:ext cx="914112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440" y="133668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440" y="149868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1440" y="1440"/>
                <a:ext cx="9141120" cy="1659240"/>
                <a:chOff x="1440" y="1440"/>
                <a:chExt cx="9141120" cy="165924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4480" y="1440"/>
                  <a:ext cx="66600" cy="16592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11680" y="1440"/>
                  <a:ext cx="245880" cy="16592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4080" y="1440"/>
                  <a:ext cx="381240" cy="16592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8520" y="1440"/>
                  <a:ext cx="560520" cy="16592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1800" y="1440"/>
                  <a:ext cx="714240" cy="16592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5080" y="1440"/>
                  <a:ext cx="857160" cy="16592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7440" y="1440"/>
                  <a:ext cx="1019160" cy="16592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1440" y="173160"/>
                  <a:ext cx="100044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7360" y="1440"/>
                  <a:ext cx="245880" cy="16592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10240" y="1440"/>
                  <a:ext cx="380880" cy="16592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7440" y="1440"/>
                  <a:ext cx="569880" cy="16592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2160" y="1440"/>
                  <a:ext cx="712800" cy="16592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3600" y="1440"/>
                  <a:ext cx="858960" cy="16592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70800" y="1440"/>
                  <a:ext cx="1019160" cy="16592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5520" y="77760"/>
                  <a:ext cx="1067040" cy="15829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1440" y="887400"/>
                <a:ext cx="9141120" cy="773280"/>
                <a:chOff x="1440" y="887400"/>
                <a:chExt cx="9141120" cy="7732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440" y="982800"/>
                  <a:ext cx="48600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9960" y="887400"/>
                  <a:ext cx="552600" cy="7732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20840" y="1650960"/>
                <a:ext cx="8254800" cy="5207040"/>
                <a:chOff x="420840" y="1650960"/>
                <a:chExt cx="825480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4480" y="1650960"/>
                  <a:ext cx="6660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21080" y="165096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30360" y="1650960"/>
                  <a:ext cx="107496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2120" y="1650960"/>
                  <a:ext cx="163692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20840" y="1650960"/>
                  <a:ext cx="209376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7360" y="165096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10240" y="165096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8880" y="1650960"/>
                  <a:ext cx="164484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8920" y="165096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440" y="1650960"/>
                <a:ext cx="1990800" cy="417852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40" y="1650960"/>
                <a:ext cx="1505160" cy="266076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440" y="165096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440" y="165096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5040" y="1650960"/>
                <a:ext cx="2027520" cy="426420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4040" y="165096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8760" y="1650960"/>
                <a:ext cx="1063800" cy="158292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3200" y="1650960"/>
                <a:ext cx="549360" cy="77328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2040"/>
            <a:ext cx="212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DejaVu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2040"/>
            <a:ext cx="28861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DejaVu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2040"/>
            <a:ext cx="21211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B6B3B-0C71-4C21-9FF3-2B79FE503532}" type="slidenum">
              <a:rPr b="0" lang="en-GB" sz="1000" spc="-1" strike="noStrike">
                <a:solidFill>
                  <a:srgbClr val="eaeaea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3320" indent="-27612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79640" y="5940360"/>
            <a:ext cx="3600360" cy="90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-297000"/>
            <a:ext cx="8458200" cy="33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Участие на гражданите в наблюдението на обществените услу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160720"/>
            <a:ext cx="82296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ctr"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ctr"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ctr"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400" y="237600"/>
            <a:ext cx="8226360" cy="16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-152280"/>
            <a:ext cx="8382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Резултати от наблюдение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981080"/>
            <a:ext cx="838224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029200" y="1600200"/>
          <a:ext cx="3276720" cy="21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181480" y="5943600"/>
            <a:ext cx="327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5335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УСТОЙЧИВ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28800"/>
            <a:ext cx="77724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Решение на кмета, определящо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задачите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за държавния служител, отговорен за системата за наблю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Решение на местния Общински съвет за институционализиране на Системата за наблюдение като официален инструмент на местната власт при оценяване на качеството на местните 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f"/>
                </a:solidFill>
                <a:latin typeface="Book Antiqua"/>
              </a:rPr>
              <a:t>Система за наблюдение, за да подмогане на местното управление за подобряване качеството на услуг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800360"/>
            <a:ext cx="838188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4200" indent="-214200">
              <a:buClr>
                <a:srgbClr val="ffff00"/>
              </a:buClr>
              <a:buFont typeface="Wingdings" charset="2"/>
              <a:buChar char="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Стандарти за изпълнение,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установени с помощта на граждан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buClr>
                <a:srgbClr val="ffff00"/>
              </a:buClr>
              <a:buFont typeface="Wingdings" charset="2"/>
              <a:buChar char="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Наблюдение на услугите и система за оценка на качеството,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разработена въз основа на опита на граждан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buClr>
                <a:srgbClr val="ffff00"/>
              </a:buClr>
              <a:buFont typeface="Wingdings" charset="2"/>
              <a:buChar char="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Прозрачна процедура за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сключване на догов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73160">
              <a:lnSpc>
                <a:spcPct val="10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Book Antiqua"/>
              </a:rPr>
              <a:t>Стъпки за въвличане на гражда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38224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143000"/>
            <a:ext cx="876312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89120" indent="-3319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891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Създаване на местна работна група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и план за действ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319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891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Работен семинар за обсъждане</a:t>
            </a: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 на съществуващите стандарти за извършваните услуги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и разработване на местна система на наблюд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319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891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Публични кампании,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 които да информират гражданите за ролята им на наблюдатели и оценители на обществените услуг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319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891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Въвеждане на </a:t>
            </a: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Гражданска система за наблюд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319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891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Развиване на </a:t>
            </a: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Местна наредба за услуги,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включваща резултатите от наблюдението на граждани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319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891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Разработване на пакет стандартни процедури и материали за използване (</a:t>
            </a: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Инструментариум за наблюдение на услугите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и </a:t>
            </a: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Наръчник на инспектора)</a:t>
            </a: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319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891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Разпространяване на системата за наблюдение на услугите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msminch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7468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Book Antiqua"/>
              </a:rPr>
              <a:t>Продукти на местното самоуправ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981080"/>
            <a:ext cx="838224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057400"/>
            <a:ext cx="78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msmincho"/>
              </a:rPr>
              <a:t>Брошура за обществените услуги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msmincho"/>
              </a:rPr>
              <a:t>Система за наблюдение на услугите от гражданите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msmincho"/>
              </a:rPr>
              <a:t>Местни наредби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msmincho"/>
              </a:rPr>
              <a:t>Комплект от стандартни матери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Book Antiqua"/>
              </a:rPr>
              <a:t>Брошур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838224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Book Antiqua"/>
              </a:rPr>
              <a:t>Карта за наблю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981080"/>
            <a:ext cx="838224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746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Book Antiqua"/>
              </a:rPr>
              <a:t>Обучение за извършване наблюд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981080"/>
            <a:ext cx="838224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9720" y="274680"/>
            <a:ext cx="831708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457200"/>
            <a:ext cx="342900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f"/>
                </a:solidFill>
                <a:latin typeface="Arial"/>
              </a:rPr>
              <a:t>ЗАЕДНО ЗА ЕДИН ПО-ЧИСТ ГРАД!</a:t>
            </a:r>
            <a:r>
              <a:rPr b="0" lang="en-GB" sz="2800" spc="-1" strike="noStrike">
                <a:solidFill>
                  <a:srgbClr val="ffff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Публични дискусии за местното качество на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почистването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1981080"/>
            <a:ext cx="838224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84088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Пряко участие – доставчиците на услуги се отчитат за качеството на своята работа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rian capilnean</dc:creator>
  <dc:description/>
  <dc:language>en-US</dc:language>
  <cp:lastModifiedBy>Milena Nedeva</cp:lastModifiedBy>
  <cp:revision>0</cp:revision>
  <dc:subject/>
  <dc:title>Slide 1</dc:title>
</cp:coreProperties>
</file>