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68F75-ECA9-458D-A49B-329AF9102C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EBCA5-EBE2-4C14-A6B6-DCA870F04C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5B470-DC1F-4EC3-BA00-653833BE0C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2AEE8-76AF-453D-99E5-7CE7054C4B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8362D-48F3-4C89-AF58-A27549AE2A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7A06C-60D1-4170-B18E-9BD95CCF62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CD176-EEEE-49DC-A320-E965753818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08402-88DE-4599-8964-EEB95F43A0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F0917-28C0-4E9D-9966-7F9F44A2AB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2A949-95ED-4AB2-B068-38638E31E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187-7FA8-4F2D-87F4-92152783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C91-A8FA-4118-B902-10867AD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F3B1-DF45-4CFD-AF5C-BB5239F0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7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840" y="16045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6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7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840" y="396612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E41-D6F2-496E-AAEF-E439457E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518-9491-4D9D-966C-4C457DB4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B43-7B18-401D-9216-5FFCD95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FA56-9425-469D-B5FD-8116C30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82F-CD7C-472D-A182-EB57AAC8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760" y="1920960"/>
            <a:ext cx="8216640" cy="80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D586-E41A-46A2-ACAA-74409745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7DDF-13A3-45A6-8E00-7BE56DA3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720" y="39661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9B6-E9A6-49FE-A1EC-0369BFF7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60452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612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3F5-C557-455E-91FE-6F3A202A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1440"/>
            <a:ext cx="9142560" cy="6856560"/>
            <a:chOff x="1440" y="144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1440" y="1440"/>
              <a:ext cx="9141120" cy="165600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1440" y="1440"/>
              <a:ext cx="9142560" cy="6856560"/>
              <a:chOff x="1440" y="144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3240" y="16527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440" y="6332400"/>
                <a:ext cx="9141120" cy="6696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440" y="581976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440" y="534204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440" y="4930920"/>
                <a:ext cx="9141120" cy="4896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440" y="4540320"/>
                <a:ext cx="914112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40" y="4199040"/>
                <a:ext cx="914112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440" y="3863880"/>
                <a:ext cx="914112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440" y="35877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440" y="33195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440" y="306216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440" y="2612880"/>
                <a:ext cx="914112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0" y="28242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440" y="2414520"/>
                <a:ext cx="914112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440" y="221472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440" y="203364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40" y="187020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440" y="39600"/>
                <a:ext cx="914112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440" y="297000"/>
                <a:ext cx="914112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40" y="75564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440" y="5364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440" y="954000"/>
                <a:ext cx="914112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440" y="1155600"/>
                <a:ext cx="914112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440" y="133668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440" y="149868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1440" y="1440"/>
                <a:ext cx="9141120" cy="1659240"/>
                <a:chOff x="1440" y="1440"/>
                <a:chExt cx="9141120" cy="165924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4480" y="1440"/>
                  <a:ext cx="66600" cy="165924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11680" y="1440"/>
                  <a:ext cx="245880" cy="16592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4080" y="1440"/>
                  <a:ext cx="381240" cy="16592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8520" y="1440"/>
                  <a:ext cx="560520" cy="165924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1800" y="1440"/>
                  <a:ext cx="714240" cy="165924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5080" y="1440"/>
                  <a:ext cx="857160" cy="165924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7440" y="1440"/>
                  <a:ext cx="1019160" cy="16592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1440" y="173160"/>
                  <a:ext cx="100044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7360" y="1440"/>
                  <a:ext cx="245880" cy="165924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10240" y="1440"/>
                  <a:ext cx="380880" cy="165924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7440" y="1440"/>
                  <a:ext cx="569880" cy="165924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2160" y="1440"/>
                  <a:ext cx="712800" cy="165924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3600" y="1440"/>
                  <a:ext cx="858960" cy="165924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70800" y="1440"/>
                  <a:ext cx="1019160" cy="165924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5520" y="77760"/>
                  <a:ext cx="1067040" cy="158292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1440" y="887400"/>
                <a:ext cx="9141120" cy="773280"/>
                <a:chOff x="1440" y="887400"/>
                <a:chExt cx="9141120" cy="77328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440" y="982800"/>
                  <a:ext cx="48600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9960" y="887400"/>
                  <a:ext cx="552600" cy="77328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20840" y="1650960"/>
                <a:ext cx="8254800" cy="5207040"/>
                <a:chOff x="420840" y="1650960"/>
                <a:chExt cx="825480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4480" y="1650960"/>
                  <a:ext cx="6660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21080" y="165096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30360" y="1650960"/>
                  <a:ext cx="107496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2120" y="1650960"/>
                  <a:ext cx="163692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20840" y="1650960"/>
                  <a:ext cx="209376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7360" y="165096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10240" y="165096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8880" y="1650960"/>
                  <a:ext cx="164484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8920" y="165096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440" y="1650960"/>
                <a:ext cx="1990800" cy="417852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40" y="1650960"/>
                <a:ext cx="1505160" cy="266076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440" y="165096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40" y="165096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5040" y="1650960"/>
                <a:ext cx="2027520" cy="426420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4040" y="165096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8760" y="1650960"/>
                <a:ext cx="1063800" cy="158292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3200" y="1650960"/>
                <a:ext cx="549360" cy="77328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920960"/>
            <a:ext cx="82166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2040"/>
            <a:ext cx="2120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3720" y="6242040"/>
            <a:ext cx="2886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2040"/>
            <a:ext cx="21211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BB6B-99A3-4238-8594-4B88F74E3976}" type="slidenum">
              <a:rPr b="0" lang="en-GB" sz="1000" spc="-1" strike="noStrike">
                <a:solidFill>
                  <a:srgbClr val="eaeaea"/>
                </a:solidFill>
                <a:latin typeface="Times New Roman"/>
                <a:ea typeface="DejaVuSan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-33336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3320" indent="-27612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79640" y="5940360"/>
            <a:ext cx="3600360" cy="90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-297000"/>
            <a:ext cx="845820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Участие на гражданите в наблюдението на обществените услуг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216072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ctr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37600"/>
            <a:ext cx="8226360" cy="16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-152280"/>
            <a:ext cx="8382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Резултати от наблюдение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5029200" y="1600200"/>
          <a:ext cx="3276720" cy="21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181480" y="5943600"/>
            <a:ext cx="327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53352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УСТОЙЧИВ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828800"/>
            <a:ext cx="77724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Решение на кмета, определящо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задачите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за държавния служител, отговорен за системата за наблю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Решение на местния Общински съвет за институционализиране на Системата за наблюдение като официален инструмент на местната власт при оценяване на качеството на местните усл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46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f"/>
                </a:solidFill>
                <a:latin typeface="Book Antiqua"/>
              </a:rPr>
              <a:t>Система за наблюдение, за да подмогане на местното управление за подобряване качеството на услуг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800360"/>
            <a:ext cx="838188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Стандарти за изпълнение,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установени с помощта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Наблюдение на услугите и система за оценка на качеството,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разработена въз основа на опита на гражд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buClr>
                <a:srgbClr val="ffff00"/>
              </a:buClr>
              <a:buFont typeface="Wingdings" charset="2"/>
              <a:buChar char=""/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Прозрачна процедура за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сключване на догов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173160">
              <a:lnSpc>
                <a:spcPct val="100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Стъпки за въвличане на гражда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43000"/>
            <a:ext cx="876312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Създаване на местна работна група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план за действ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ботен семинар за обсъждане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 на съществуващите стандарти за извършваните услуги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разработване на местна система на наблю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Публични кампании,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 които да информират гражданите за ролята им на наблюдатели и оценители на обществените услуг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Въвеждане на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Гражданска система за наблюд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виване на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Местна наредба за услуги,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включваща резултатите от наблюдението на граждани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работване на пакет стандартни процедури и материали за използване (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нструментариум за наблюдение на услугите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и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Наръчник на инспектора)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33192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7891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msmincho"/>
              </a:rPr>
              <a:t>Разпространяване на системата за наблюдение на услугит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msmincho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Book Antiqua"/>
              </a:rPr>
              <a:t>Продукти на местното самоуправл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057400"/>
            <a:ext cx="78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Брошура за обществените услуги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Система за наблюдение на услугите от гражданите 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Местни наредби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86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msmincho"/>
              </a:rPr>
              <a:t>Комплект от стандартни матери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Брошур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Book Antiqua"/>
              </a:rPr>
              <a:t>Карта за наблюд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Book Antiqua"/>
              </a:rPr>
              <a:t>Обучение за извършване наблюд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9720" y="274680"/>
            <a:ext cx="831708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457200"/>
            <a:ext cx="3429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6f"/>
                </a:solidFill>
                <a:latin typeface="Arial"/>
              </a:rPr>
              <a:t>ЗАЕДНО ЗА ЕДИН ПО-ЧИСТ ГРАД!</a:t>
            </a:r>
            <a:r>
              <a:rPr b="0" lang="en-GB" sz="2800" spc="-1" strike="noStrike">
                <a:solidFill>
                  <a:srgbClr val="ffff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Публични дискусии за местното качество на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почистването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1981080"/>
            <a:ext cx="8382240" cy="41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84088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Пряко участие – доставчиците на услуги се отчитат за качеството на своята работа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rian capilnean</dc:creator>
  <dc:description/>
  <dc:language>en-US</dc:language>
  <cp:lastModifiedBy>Milena Nedeva</cp:lastModifiedBy>
  <cp:revision>0</cp:revision>
  <dc:subject/>
  <dc:title>Slide 1</dc:title>
</cp:coreProperties>
</file>