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384E-A20F-4870-8BC3-78F3F01C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0B58-ACE7-460F-85BB-A3F393A6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8E98-452C-47BC-A7FC-9CDFD6A3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386E-AE7E-4DC0-81D2-6BD0FFDD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7A5B-2E40-47C8-945A-060EAAD7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817B-BA90-4DBB-BE60-4AAD151A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09B2-4370-4C70-AE51-34615AFC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CA8B-E233-4420-AEFE-A050F662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4BA9-4681-4A44-AA42-3A1CCEA4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657A-89FB-4E5E-8D2C-A2E7A075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14C8-35CD-45A7-BC20-C867BE5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C947-5DBB-45F2-9CF0-7120CFC8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0316-B0DA-4976-B19A-188F28ED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9E84-62AC-41F2-9047-C2BBCD86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30E3-3476-4827-B96F-4402C920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259-3070-44D5-B0D2-3458E7F5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F809-BCB6-4114-97B6-1C6F5708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2515-F114-4685-BF30-00CC8F05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0695-A8F4-410A-A6D3-4685A72A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5DEF-2722-4CA5-B8CC-22DE56EF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7CE6-E201-4C9D-ADF1-44049A37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F5B3-D1A5-41F5-82FC-BF7C349E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1C78-242F-4B26-80B1-63249A9E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8186-8843-46CD-B18B-DBC5F249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DejaVu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03262-A6F2-459A-B17D-6EFA5D89D97D}" type="slidenum">
              <a:rPr b="0" lang="en-GB" sz="1200" spc="-1" strike="noStrike">
                <a:solidFill>
                  <a:srgbClr val="ffffff"/>
                </a:solidFill>
                <a:latin typeface="Arial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DejaVu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800" indent="-282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9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532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7376CE-FCD1-45FB-A084-E9B00B31DEE2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Garamond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ИНТЕГРИТЕ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Garamond"/>
              </a:rPr>
              <a:t>Отговорност и отчетност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Председателят на общинския съвет изготвя и внася за разглеждане два пъти годишно отчет за дейността на съвета и на неговите комисии, който се разглежда в открито заседание и се разгласява на населението на общината по ред, определен в правилника по чл. 21, ал. 3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говорност и отчет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Общинският съветник е длъжен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да присъства на заседанията на общинския съвет и на комисиите, в които е избран, и да участва в решаването на разглежданите въпрос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да поддържа връзки с избирателите и да ги информира за дейността и решенията на общинския съве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говорност и отчет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Постоянните и временните комисии имат за задач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да проучват потребностите на населението в съответната област и да правят предложения за решаване на проблемит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да подпомагат общинския съвет при подготовката на решения по въпроси, внесени за обсъждане и решаван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да осъществяват контрол за изпълнение на решенията на общинския съв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Garamond"/>
              </a:rPr>
              <a:t>Избягване на конфликт на интереси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92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Общинският съветник не може да участва при вземане на решения, когато се отнасят до негови имуществени интереси или до интереси на съпруг и роднини по права линия и по съребрена линия до четвърта степен включително и по сватовство до втора степен включител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92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Терминът “интегритет” произхожда от латински език и неговото буквално значение е “непокътнат” (in tangere). Отнася за нещо или някой, който е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неповлиян</a:t>
            </a:r>
            <a:r>
              <a:rPr b="0" lang="en-GB" sz="3200" spc="-1" strike="noStrike">
                <a:solidFill>
                  <a:srgbClr val="a50021"/>
                </a:solidFill>
                <a:latin typeface="Garamond"/>
              </a:rPr>
              <a:t>,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неопетнен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незасегнат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GB" sz="3600" spc="-1" strike="noStrike">
                <a:solidFill>
                  <a:srgbClr val="ffffff"/>
                </a:solidFill>
                <a:latin typeface="Garamond"/>
              </a:rPr>
              <a:t>Речниковата дефиниция на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“интегритет” </a:t>
            </a:r>
            <a:r>
              <a:rPr b="0" lang="en-GB" sz="3600" spc="-1" strike="noStrike">
                <a:solidFill>
                  <a:srgbClr val="ffffff"/>
                </a:solidFill>
                <a:latin typeface="Garamond"/>
              </a:rPr>
              <a:t>включва думи като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660033"/>
                </a:solidFill>
                <a:latin typeface="Garamond"/>
              </a:rPr>
              <a:t>“честност”,  “ почтеност”,</a:t>
            </a:r>
            <a:r>
              <a:rPr b="0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660033"/>
                </a:solidFill>
                <a:latin typeface="Garamond"/>
              </a:rPr>
              <a:t>“неприкосновеност”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660033"/>
                </a:solidFill>
                <a:latin typeface="Garamond"/>
              </a:rPr>
              <a:t>“непоквареност”.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Етични стандарти и кодекси за поведение на изборните представители 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“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При изпълнение на своите отговорности представителят на изборна длъжност служи на </a:t>
            </a:r>
            <a:r>
              <a:rPr b="1" lang="en-GB" sz="2800" spc="-1" strike="noStrike">
                <a:solidFill>
                  <a:srgbClr val="a50021"/>
                </a:solidFill>
                <a:latin typeface="Garamond"/>
              </a:rPr>
              <a:t>обществения интерес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, като с поведението и отношението си е длъжен да </a:t>
            </a:r>
            <a:r>
              <a:rPr b="1" lang="en-GB" sz="2800" spc="-1" strike="noStrike">
                <a:solidFill>
                  <a:srgbClr val="a50021"/>
                </a:solidFill>
                <a:latin typeface="Garamond"/>
              </a:rPr>
              <a:t>изгражда доверие между местната власт и гражданите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Пред обществото отговаря с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Garamond"/>
              </a:rPr>
              <a:t>откритост и воля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за своите решения, като </a:t>
            </a:r>
            <a:r>
              <a:rPr b="1" lang="en-GB" sz="2400" spc="-1" strike="noStrike">
                <a:solidFill>
                  <a:srgbClr val="a50021"/>
                </a:solidFill>
                <a:latin typeface="Garamond"/>
              </a:rPr>
              <a:t>представя аргументите, с които може да ги защити, базиращи се на законови правила и процедури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Етичен кодекс на общинските съветници и служителите на Столична общи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Структура на Етичния кодекс на Общински съвет Пазарджи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Политическа безпристраст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Закон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Публич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Безпристраст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Обществен дълг и личен интере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Декларация за имотното състоя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Обектив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Компетент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Поведение на съветниците в за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Правомощия на комисията по етика</a:t>
            </a:r>
            <a:br>
              <a:rPr sz="2400"/>
            </a:br>
            <a:br>
              <a:rPr sz="2400"/>
            </a:br>
            <a:br>
              <a:rPr sz="1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i="1" lang="en-GB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Закон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Заклевам се в името на Република България </a:t>
            </a:r>
            <a:r>
              <a:rPr b="1" lang="en-GB" sz="3600" spc="-1" strike="noStrike">
                <a:solidFill>
                  <a:srgbClr val="a50021"/>
                </a:solidFill>
                <a:latin typeface="Garamond"/>
              </a:rPr>
              <a:t>да спазвам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Garamond"/>
              </a:rPr>
              <a:t>Конституцията и законите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на страната и във всичките си действия да се ръководя от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интересите на гражданите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от... община и да работя за тяхното благоденств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критост и достъп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Актовете на общинския съвет се разгласяват на населението на общината чрез средствата за масово осведомяване, чрез интернет страницата на общината и по друг подходящ начин, определен в правилника по чл. 21, ал. 3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Оспорването, спирането, отмяната или потвърждаването на оспорените актове на общинския съвет се разгласява по същия ре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критост и достъп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Заседанията на общинския съвет и на неговите комисии да са открити. По изключение общинският съвет може да реши отделни заседания да са закри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Гражданите могат да присъстват на заседанията на общинския съвет и на неговите комисии, като заемат специално определените за тях мес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критост и достъп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Гражданите могат да се изказват, да отправят питания, становища и предложения от компетентността на общинския съвет, кмета или общинската администрация, представляващи обществен интерес, и да получават отговори по ред, начин и в срок, определени в правилника за организацията и дейността на общинския съв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Гражданите и юридическите лица могат да внасят писмени предложения и становища в комисиите на общинския съв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aneta Tsoneva</dc:creator>
  <dc:description/>
  <dc:language>en-US</dc:language>
  <cp:lastModifiedBy>OSP</cp:lastModifiedBy>
  <cp:revision>0</cp:revision>
  <dc:subject/>
  <dc:title>Slide 1</dc:title>
</cp:coreProperties>
</file>