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C0DB-8A35-42B9-B482-05DDA5B4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799D-6D96-4CA2-BF07-84CB18D0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71DF4-C347-4332-AF96-102BCD0D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3FC9-4F64-4531-9E8A-04DBC0A3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6FC6-2F72-40E0-96BF-6DEEC485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58E9-D84D-4F72-BFA5-646667A4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4039-9C72-4570-945F-422E4142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F718-DC14-421D-B2F5-3E081466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0904-959B-42F1-BB0D-01BAA13B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6438-4381-4700-9D90-F822F149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B152-662C-4BAE-A828-4108812D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3E305-A53A-43B0-B4C3-B28219B6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228A-B26F-4009-A373-316872A2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DC0C-A7B4-4170-AC84-CD07BA55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AB8C-79D0-439E-855F-D3469DB9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14AC-09F1-4077-BF71-723A6520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C7F7-B376-4EF5-825D-E59D48DB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1FBF3-7A46-4B96-BAD4-C3A04615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BD24F-9A15-4202-9F31-D2D02936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6DE6-79FD-47BE-8FF7-62DB0D03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4BFA-E2C8-4CFA-8A46-F42C36B2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4967-02DD-412F-AB84-8BF90CA3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B633-030F-4B7A-B3C5-28D2D778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496E5-B720-4089-8A4D-4CA4C41B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DejaVu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5A304-CE83-4D99-81CF-C08344FAB4BB}" type="slidenum">
              <a:rPr b="0" lang="en-GB" sz="1200" spc="-1" strike="noStrike">
                <a:solidFill>
                  <a:srgbClr val="ffffff"/>
                </a:solidFill>
                <a:latin typeface="Arial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DejaVu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39800" indent="-282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DejaVu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96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DejaVu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532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9BE84E0-D0B9-4562-A81A-A8FE106DE194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DejaVu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5040"/>
            <a:ext cx="82296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Garamond"/>
              </a:rPr>
              <a:t>                  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 algn="ctr">
              <a:spcBef>
                <a:spcPts val="11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Garamond"/>
              </a:rPr>
              <a:t>ИНТЕГРИТЕ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a50021"/>
                </a:solidFill>
                <a:latin typeface="Garamond"/>
              </a:rPr>
              <a:t>Отговорност и отчетност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Председателят на общинския съвет изготвя и внася за разглеждане два пъти годишно отчет за дейността на съвета и на неговите комисии, който се разглежда в открито заседание и се разгласява на населението на общината по ред, определен в правилника по чл. 21, ал. 3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Garamond"/>
              </a:rPr>
              <a:t>Отговорност и отчетно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Общинският съветник е длъжен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да присъства на заседанията на общинския съвет и на комисиите, в които е избран, и да участва в решаването на разглежданите въпроси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да поддържа връзки с избирателите и да ги информира за дейността и решенията на общинския съвет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Garamond"/>
              </a:rPr>
              <a:t>Отговорност и отчетно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Постоянните и временните комисии имат за задач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да проучват потребностите на населението в съответната област и да правят предложения за решаване на проблемит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да подпомагат общинския съвет при подготовката на решения по въпроси, внесени за обсъждане и решаван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6160" indent="-32616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да осъществяват контрол за изпълнение на решенията на общинския съв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a50021"/>
                </a:solidFill>
                <a:latin typeface="Garamond"/>
              </a:rPr>
              <a:t>Избягване на конфликт на интереси</a:t>
            </a: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92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Общинският съветник не може да участва при вземане на решения, когато се отнасят до негови имуществени интереси или до интереси на съпруг и роднини по права линия и по съребрена линия до четвърта степен включително и по сватовство до втора степен включителн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92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95040"/>
            <a:ext cx="82296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Терминът “интегритет” произхожда от латински език и неговото буквално значение е “непокътнат” (in tangere). Отнася за нещо или някой, който е 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неповлиян</a:t>
            </a:r>
            <a:r>
              <a:rPr b="0" lang="en-GB" sz="3200" spc="-1" strike="noStrike">
                <a:solidFill>
                  <a:srgbClr val="a50021"/>
                </a:solidFill>
                <a:latin typeface="Garamond"/>
              </a:rPr>
              <a:t>, 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неопетнен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незасегнат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5040"/>
            <a:ext cx="82296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GB" sz="3600" spc="-1" strike="noStrike">
                <a:solidFill>
                  <a:srgbClr val="ffffff"/>
                </a:solidFill>
                <a:latin typeface="Garamond"/>
              </a:rPr>
              <a:t>Речниковата дефиниция на</a:t>
            </a: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 “интегритет” </a:t>
            </a:r>
            <a:r>
              <a:rPr b="0" lang="en-GB" sz="3600" spc="-1" strike="noStrike">
                <a:solidFill>
                  <a:srgbClr val="ffffff"/>
                </a:solidFill>
                <a:latin typeface="Garamond"/>
              </a:rPr>
              <a:t>включва думи като</a:t>
            </a: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3600" spc="-1" strike="noStrike">
                <a:solidFill>
                  <a:srgbClr val="660033"/>
                </a:solidFill>
                <a:latin typeface="Garamond"/>
              </a:rPr>
              <a:t>“честност”,  “ почтеност”,</a:t>
            </a:r>
            <a:r>
              <a:rPr b="0" lang="en-GB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3600" spc="-1" strike="noStrike">
                <a:solidFill>
                  <a:srgbClr val="660033"/>
                </a:solidFill>
                <a:latin typeface="Garamond"/>
              </a:rPr>
              <a:t>“неприкосновеност”</a:t>
            </a: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3600" spc="-1" strike="noStrike">
                <a:solidFill>
                  <a:srgbClr val="660033"/>
                </a:solidFill>
                <a:latin typeface="Garamond"/>
              </a:rPr>
              <a:t>“непоквареност”.</a:t>
            </a: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5e5ff"/>
                </a:solidFill>
                <a:latin typeface="Garamond"/>
              </a:rPr>
              <a:t>Етични стандарти и кодекси за поведение на изборните представители 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 “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При изпълнение на своите отговорности представителят на изборна длъжност служи на </a:t>
            </a:r>
            <a:r>
              <a:rPr b="1" lang="en-GB" sz="2800" spc="-1" strike="noStrike">
                <a:solidFill>
                  <a:srgbClr val="a50021"/>
                </a:solidFill>
                <a:latin typeface="Garamond"/>
              </a:rPr>
              <a:t>обществения интерес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, като с поведението и отношението си е длъжен да </a:t>
            </a:r>
            <a:r>
              <a:rPr b="1" lang="en-GB" sz="2800" spc="-1" strike="noStrike">
                <a:solidFill>
                  <a:srgbClr val="a50021"/>
                </a:solidFill>
                <a:latin typeface="Garamond"/>
              </a:rPr>
              <a:t>изгражда доверие между местната власт и гражданите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Пред обществото отговаря с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2800" spc="-1" strike="noStrike">
                <a:solidFill>
                  <a:srgbClr val="a50021"/>
                </a:solidFill>
                <a:latin typeface="Garamond"/>
              </a:rPr>
              <a:t>откритост и воля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за своите решения, като </a:t>
            </a:r>
            <a:r>
              <a:rPr b="1" lang="en-GB" sz="2400" spc="-1" strike="noStrike">
                <a:solidFill>
                  <a:srgbClr val="a50021"/>
                </a:solidFill>
                <a:latin typeface="Garamond"/>
              </a:rPr>
              <a:t>представя аргументите, с които може да ги защити, базиращи се на законови правила и процедури</a:t>
            </a: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Етичен кодекс на общинските съветници и служителите на Столична общин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Структура на Етичния кодекс на Общински съвет Пазарджик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Политическа безпристрастно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Законно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Публично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Безпристрастно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Обществен дълг и личен интерес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Декларация за имотното състоя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Обективно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Компетентно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Поведение на съветниците в зал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80000"/>
              </a:lnSpc>
              <a:spcBef>
                <a:spcPts val="2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Garamond"/>
              </a:rPr>
              <a:t>Правомощия на комисията по етика</a:t>
            </a:r>
            <a:br>
              <a:rPr sz="2400"/>
            </a:br>
            <a:br>
              <a:rPr sz="2400"/>
            </a:br>
            <a:br>
              <a:rPr sz="1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i="1" lang="en-GB" sz="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Garamond"/>
              </a:rPr>
              <a:t>Законно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Заклевам се в името на Република България </a:t>
            </a:r>
            <a:r>
              <a:rPr b="1" lang="en-GB" sz="3600" spc="-1" strike="noStrike">
                <a:solidFill>
                  <a:srgbClr val="a50021"/>
                </a:solidFill>
                <a:latin typeface="Garamond"/>
              </a:rPr>
              <a:t>да спазвам</a:t>
            </a: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Garamond"/>
              </a:rPr>
              <a:t>Конституцията и законите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на страната и във всичките си действия да се ръководя от </a:t>
            </a:r>
            <a:r>
              <a:rPr b="1" lang="en-GB" sz="3200" spc="-1" strike="noStrike">
                <a:solidFill>
                  <a:srgbClr val="a50021"/>
                </a:solidFill>
                <a:latin typeface="Garamond"/>
              </a:rPr>
              <a:t>интересите на гражданите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от... община и да работя за тяхното благоденств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Garamond"/>
              </a:rPr>
              <a:t>Откритост и достъпно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0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Актовете на общинския съвет се разгласяват на населението на общината чрез средствата за масово осведомяване, чрез интернет страницата на общината и по друг подходящ начин, определен в правилника по чл. 21, ал. 3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Оспорването, спирането, отмяната или потвърждаването на оспорените актове на общинския съвет се разгласява по същия ред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Garamond"/>
              </a:rPr>
              <a:t>Откритост и достъпно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Заседанията на общинския съвет и на неговите комисии да са открити. По изключение общинският съвет може да реши отделни заседания да са закри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560" indent="-3225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Гражданите могат да присъстват на заседанията на общинския съвет и на неговите комисии, като заемат специално определените за тях мест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Garamond"/>
              </a:rPr>
              <a:t>Откритост и достъпнос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Гражданите могат да се изказват, да отправят питания, становища и предложения от компетентността на общинския съвет, кмета или общинската администрация, представляващи обществен интерес, и да получават отговори по ред, начин и в срок, определени в правилника за организацията и дейността на общинския съве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Гражданите и юридическите лица могат да внасят писмени предложения и становища в комисиите на общинския съвет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9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aneta Tsoneva</dc:creator>
  <dc:description/>
  <dc:language>en-US</dc:language>
  <cp:lastModifiedBy>OSP</cp:lastModifiedBy>
  <cp:revision>0</cp:revision>
  <dc:subject/>
  <dc:title>Slide 1</dc:title>
</cp:coreProperties>
</file>